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689-B650-4295-B460-1E10C95F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7AB-F200-4D17-9BF1-4474EA6D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59F-C038-4A9E-8D7E-5A3D8B9D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B08-86D7-4547-8C0A-6992FDFE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773-FB8E-43EF-AB16-CA78D37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26C-021D-467F-860A-F61DE76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1E4-ECF9-4EB7-9401-E9F2C5F8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7B4-4A1B-47D0-ACEF-C90E79C6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234-22C8-4E5D-B136-A2794230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F09-DD47-4B28-ABAC-77485B0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DD8-A92B-43CD-B404-945EE2E0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236-F55C-49F8-B052-F476886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53BC-C0DF-4DBE-A974-E41319023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80773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roduc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pon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ELL THE MULTIPLICATION PROBLEM FOR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5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 x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)  7</a:t>
            </a:r>
            <a:r>
              <a:rPr b="1" lang="en-US" sz="6000" spc="-1" strike="noStrike" baseline="30000">
                <a:solidFill>
                  <a:srgbClr val="00ffcc"/>
                </a:solidFill>
                <a:latin typeface="Arial"/>
              </a:rPr>
              <a:t>4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ELL THE MULTIPLICATION PROBLEM FOR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5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 x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)  7</a:t>
            </a:r>
            <a:r>
              <a:rPr b="1" lang="en-US" sz="6000" spc="-1" strike="noStrike" baseline="30000">
                <a:solidFill>
                  <a:srgbClr val="00ffcc"/>
                </a:solidFill>
                <a:latin typeface="Arial"/>
              </a:rPr>
              <a:t>4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 x 7 x 7 x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ELL THE MULTIPLICATION PROBLEM FOR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5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 x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)  7</a:t>
            </a:r>
            <a:r>
              <a:rPr b="1" lang="en-US" sz="6000" spc="-1" strike="noStrike" baseline="30000">
                <a:solidFill>
                  <a:srgbClr val="00ffcc"/>
                </a:solidFill>
                <a:latin typeface="Arial"/>
              </a:rPr>
              <a:t>4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 x 7 x 7 x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3)  4</a:t>
            </a:r>
            <a:r>
              <a:rPr b="1" lang="en-US" sz="6000" spc="-1" strike="noStrike" baseline="30000">
                <a:solidFill>
                  <a:srgbClr val="00ff00"/>
                </a:solidFill>
                <a:latin typeface="Arial"/>
              </a:rPr>
              <a:t>7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ELL THE MULTIPLICATION PROBLEM FOR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5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 x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)  7</a:t>
            </a:r>
            <a:r>
              <a:rPr b="1" lang="en-US" sz="6000" spc="-1" strike="noStrike" baseline="30000">
                <a:solidFill>
                  <a:srgbClr val="00ffcc"/>
                </a:solidFill>
                <a:latin typeface="Arial"/>
              </a:rPr>
              <a:t>4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 x 7 x 7 x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3)  4</a:t>
            </a:r>
            <a:r>
              <a:rPr b="1" lang="en-US" sz="6000" spc="-1" strike="noStrike" baseline="30000">
                <a:solidFill>
                  <a:srgbClr val="00ff00"/>
                </a:solidFill>
                <a:latin typeface="Arial"/>
              </a:rPr>
              <a:t>7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=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 x 4 x 4 x 4 x 4 x 4 x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23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23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23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)  47</a:t>
            </a:r>
            <a:r>
              <a:rPr b="1" lang="en-US" sz="6000" spc="-1" strike="noStrike" baseline="30000">
                <a:solidFill>
                  <a:srgbClr val="00ffcc"/>
                </a:solidFill>
                <a:latin typeface="Arial"/>
              </a:rPr>
              <a:t>0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23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)  47</a:t>
            </a:r>
            <a:r>
              <a:rPr b="1" lang="en-US" sz="6000" spc="-1" strike="noStrike" baseline="30000">
                <a:solidFill>
                  <a:srgbClr val="00ffcc"/>
                </a:solidFill>
                <a:latin typeface="Arial"/>
              </a:rPr>
              <a:t>0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Y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+ 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– 7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5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– 5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+ 2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– 4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FIND THE VALUE OF EACH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47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– 1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47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1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THIS IS AN EXPONENTIAL EXPRE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IT CONSISTS OF TWO PAR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6386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7120" y="4648320"/>
            <a:ext cx="1154160" cy="1341360"/>
          </a:xfrm>
          <a:custGeom>
            <a:avLst/>
            <a:gdLst/>
            <a:ahLst/>
            <a:rect l="l" t="t" r="r" b="b"/>
            <a:pathLst>
              <a:path w="714" h="762">
                <a:moveTo>
                  <a:pt x="0" y="762"/>
                </a:moveTo>
                <a:cubicBezTo>
                  <a:pt x="111" y="717"/>
                  <a:pt x="130" y="659"/>
                  <a:pt x="197" y="574"/>
                </a:cubicBezTo>
                <a:cubicBezTo>
                  <a:pt x="233" y="480"/>
                  <a:pt x="263" y="387"/>
                  <a:pt x="291" y="291"/>
                </a:cubicBezTo>
                <a:cubicBezTo>
                  <a:pt x="304" y="244"/>
                  <a:pt x="314" y="184"/>
                  <a:pt x="353" y="150"/>
                </a:cubicBezTo>
                <a:cubicBezTo>
                  <a:pt x="379" y="126"/>
                  <a:pt x="418" y="103"/>
                  <a:pt x="448" y="87"/>
                </a:cubicBezTo>
                <a:cubicBezTo>
                  <a:pt x="490" y="63"/>
                  <a:pt x="515" y="31"/>
                  <a:pt x="565" y="25"/>
                </a:cubicBezTo>
                <a:cubicBezTo>
                  <a:pt x="646" y="14"/>
                  <a:pt x="607" y="20"/>
                  <a:pt x="683" y="9"/>
                </a:cubicBezTo>
                <a:cubicBezTo>
                  <a:pt x="708" y="0"/>
                  <a:pt x="697" y="1"/>
                  <a:pt x="714" y="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IT CONSISTS OF TWO PAR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6386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181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27120" y="4648320"/>
            <a:ext cx="1154160" cy="1341360"/>
          </a:xfrm>
          <a:custGeom>
            <a:avLst/>
            <a:gdLst/>
            <a:ahLst/>
            <a:rect l="l" t="t" r="r" b="b"/>
            <a:pathLst>
              <a:path w="714" h="762">
                <a:moveTo>
                  <a:pt x="0" y="762"/>
                </a:moveTo>
                <a:cubicBezTo>
                  <a:pt x="111" y="717"/>
                  <a:pt x="130" y="659"/>
                  <a:pt x="197" y="574"/>
                </a:cubicBezTo>
                <a:cubicBezTo>
                  <a:pt x="233" y="480"/>
                  <a:pt x="263" y="387"/>
                  <a:pt x="291" y="291"/>
                </a:cubicBezTo>
                <a:cubicBezTo>
                  <a:pt x="304" y="244"/>
                  <a:pt x="314" y="184"/>
                  <a:pt x="353" y="150"/>
                </a:cubicBezTo>
                <a:cubicBezTo>
                  <a:pt x="379" y="126"/>
                  <a:pt x="418" y="103"/>
                  <a:pt x="448" y="87"/>
                </a:cubicBezTo>
                <a:cubicBezTo>
                  <a:pt x="490" y="63"/>
                  <a:pt x="515" y="31"/>
                  <a:pt x="565" y="25"/>
                </a:cubicBezTo>
                <a:cubicBezTo>
                  <a:pt x="646" y="14"/>
                  <a:pt x="607" y="20"/>
                  <a:pt x="683" y="9"/>
                </a:cubicBezTo>
                <a:cubicBezTo>
                  <a:pt x="708" y="0"/>
                  <a:pt x="697" y="1"/>
                  <a:pt x="714" y="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03760" y="3909960"/>
            <a:ext cx="1244880" cy="1295280"/>
          </a:xfrm>
          <a:custGeom>
            <a:avLst/>
            <a:gdLst/>
            <a:ahLst/>
            <a:rect l="l" t="t" r="r" b="b"/>
            <a:pathLst>
              <a:path w="784" h="816">
                <a:moveTo>
                  <a:pt x="784" y="816"/>
                </a:moveTo>
                <a:cubicBezTo>
                  <a:pt x="767" y="750"/>
                  <a:pt x="749" y="686"/>
                  <a:pt x="737" y="620"/>
                </a:cubicBezTo>
                <a:cubicBezTo>
                  <a:pt x="724" y="551"/>
                  <a:pt x="717" y="471"/>
                  <a:pt x="674" y="416"/>
                </a:cubicBezTo>
                <a:cubicBezTo>
                  <a:pt x="654" y="319"/>
                  <a:pt x="566" y="238"/>
                  <a:pt x="486" y="188"/>
                </a:cubicBezTo>
                <a:cubicBezTo>
                  <a:pt x="458" y="171"/>
                  <a:pt x="437" y="151"/>
                  <a:pt x="407" y="141"/>
                </a:cubicBezTo>
                <a:cubicBezTo>
                  <a:pt x="337" y="89"/>
                  <a:pt x="224" y="63"/>
                  <a:pt x="141" y="39"/>
                </a:cubicBezTo>
                <a:cubicBezTo>
                  <a:pt x="114" y="31"/>
                  <a:pt x="88" y="22"/>
                  <a:pt x="62" y="16"/>
                </a:cubicBezTo>
                <a:cubicBezTo>
                  <a:pt x="49" y="12"/>
                  <a:pt x="35" y="11"/>
                  <a:pt x="23" y="8"/>
                </a:cubicBezTo>
                <a:cubicBezTo>
                  <a:pt x="15" y="5"/>
                  <a:pt x="0" y="0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THE EXPONENT TELLS HOW MANY TIMES THE BASE IS MULTIPLIED BY ITSEL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17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THE EXPONENT TELLS HOW MANY TIMES THE BASE IS MULTIPLIED BY ITSEL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17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11700" spc="-1" strike="noStrike">
                <a:solidFill>
                  <a:srgbClr val="ffffff"/>
                </a:solidFill>
                <a:latin typeface="Arial"/>
              </a:rPr>
              <a:t>4 x 4 x 4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9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ELL THE MULTIPLICATION PROBLEM FOR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5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9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TELL THE MULTIPLICATION PROBLEM FOR EACH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)  5</a:t>
            </a:r>
            <a:r>
              <a:rPr b="1" lang="en-US" sz="60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 x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3:39Z</dcterms:modified>
  <cp:revision>45</cp:revision>
  <dc:subject/>
  <dc:title>No Slide Title</dc:title>
</cp:coreProperties>
</file>