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6B1-F8A6-41A4-8037-78B76F88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18A-2665-4BE6-A2EC-32852AF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BA8-440B-43DF-ABCD-40D0E2F5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D95-3C44-4F04-BBCC-D453BC06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D5F-BD4B-4D05-B5C8-D996F499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9F1-6817-4DF6-ADF9-1E4E686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0F3-2EFD-4F67-BCFA-DB76FCD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844-13A9-40B9-99C1-635BB21C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B30-2869-438F-BFF4-21896669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261-49C8-490D-B992-8E71E53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637-D259-4821-8405-3EF4A4F8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6FA-9E43-44E6-B350-BC895D20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6FFB-4CF7-4AFD-9478-9EBC81D68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0948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Line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Inequal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191120" y="4191120"/>
            <a:ext cx="4952880" cy="2057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1473600">
            <a:off x="5516640" y="220320"/>
            <a:ext cx="3798720" cy="4282920"/>
          </a:xfrm>
          <a:prstGeom prst="triangle">
            <a:avLst>
              <a:gd name="adj" fmla="val 4275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924680" y="304920"/>
            <a:ext cx="1219320" cy="396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rot="8148000">
            <a:off x="4952880" y="2971440"/>
            <a:ext cx="2190960" cy="3124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rot="16146600">
            <a:off x="2090520" y="3695400"/>
            <a:ext cx="2517840" cy="259092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0" y="0"/>
            <a:ext cx="914400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y &lt; x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0" y="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y = -      x + 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495680" y="2209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419720" y="350532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91120" y="3429000"/>
            <a:ext cx="1295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rot="10804800">
            <a:off x="2053800" y="302760"/>
            <a:ext cx="6861240" cy="464832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0" y="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y &gt; -      x + 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495680" y="2209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19720" y="350532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191120" y="3429000"/>
            <a:ext cx="1295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4038480"/>
            <a:ext cx="7617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rot="10804800">
            <a:off x="2053800" y="302760"/>
            <a:ext cx="6861240" cy="464832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0" y="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y &gt; -      x + 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495680" y="2209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419720" y="350532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191120" y="3429000"/>
            <a:ext cx="1295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057400" y="304920"/>
            <a:ext cx="6858000" cy="464796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28600" y="304920"/>
            <a:ext cx="1828800" cy="594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905120" y="4876920"/>
            <a:ext cx="70102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rot="18276600">
            <a:off x="6813720" y="3843000"/>
            <a:ext cx="144756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0" y="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y &lt; -      x + 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495680" y="2209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419720" y="350532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191120" y="3429000"/>
            <a:ext cx="1295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57400" y="304920"/>
            <a:ext cx="6858000" cy="464796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" y="304920"/>
            <a:ext cx="1828800" cy="594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905120" y="4876920"/>
            <a:ext cx="70102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 rot="18276600">
            <a:off x="6813720" y="3843000"/>
            <a:ext cx="144756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0" y="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y &lt; -      x + 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495680" y="2209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419720" y="350532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191120" y="3429000"/>
            <a:ext cx="1295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981080" y="4038480"/>
            <a:ext cx="76212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28600" y="304920"/>
            <a:ext cx="533412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rot="5395800">
            <a:off x="5559840" y="300600"/>
            <a:ext cx="2441880" cy="2440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 rot="4016400">
            <a:off x="1910880" y="952560"/>
            <a:ext cx="3706920" cy="46371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28600" y="2590920"/>
            <a:ext cx="1828800" cy="3657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rot="13669200">
            <a:off x="1409400" y="5142600"/>
            <a:ext cx="1066680" cy="83844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2057400" y="304920"/>
            <a:ext cx="6858000" cy="464796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28600" y="304920"/>
            <a:ext cx="1828800" cy="5943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1905120" y="4876920"/>
            <a:ext cx="70102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rot="18276600">
            <a:off x="6813720" y="3843000"/>
            <a:ext cx="144756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rot="12852000">
            <a:off x="837720" y="1066320"/>
            <a:ext cx="3640320" cy="301320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rot="19356600">
            <a:off x="1407600" y="701280"/>
            <a:ext cx="2057400" cy="3962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rot="2671800">
            <a:off x="2177640" y="1677960"/>
            <a:ext cx="1751040" cy="4575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rot="20031000">
            <a:off x="4633920" y="1676160"/>
            <a:ext cx="757080" cy="127764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rot="2666400">
            <a:off x="4495320" y="2286000"/>
            <a:ext cx="76320" cy="289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rot="2666400">
            <a:off x="2960280" y="3759120"/>
            <a:ext cx="152280" cy="2895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1828800" y="6019920"/>
            <a:ext cx="304920" cy="228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228600" y="304920"/>
            <a:ext cx="533412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 rot="5395800">
            <a:off x="5559840" y="300600"/>
            <a:ext cx="2441880" cy="2440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rot="4016400">
            <a:off x="1910880" y="952560"/>
            <a:ext cx="3706920" cy="46371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28600" y="2590920"/>
            <a:ext cx="1828800" cy="3657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rot="13669200">
            <a:off x="1409400" y="5142600"/>
            <a:ext cx="1066680" cy="83844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057400" y="304920"/>
            <a:ext cx="6858000" cy="464796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600" y="304920"/>
            <a:ext cx="1828800" cy="5943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1905120" y="4876920"/>
            <a:ext cx="70102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 rot="18276600">
            <a:off x="6813720" y="3843000"/>
            <a:ext cx="144756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 rot="12852000">
            <a:off x="837720" y="1066320"/>
            <a:ext cx="3640320" cy="301320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 rot="19356600">
            <a:off x="1407600" y="701280"/>
            <a:ext cx="2057400" cy="3962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 rot="2671800">
            <a:off x="2177640" y="1677960"/>
            <a:ext cx="1751040" cy="4575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 rot="20031000">
            <a:off x="4633920" y="1676160"/>
            <a:ext cx="757080" cy="127764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 rot="2666400">
            <a:off x="4495320" y="2286000"/>
            <a:ext cx="76320" cy="289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 rot="2666400">
            <a:off x="2960280" y="3759120"/>
            <a:ext cx="152280" cy="2895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828800" y="6019920"/>
            <a:ext cx="304920" cy="228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228600" y="304920"/>
            <a:ext cx="533412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 rot="5395800">
            <a:off x="5559840" y="300600"/>
            <a:ext cx="2441880" cy="2440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 rot="4016400">
            <a:off x="1910880" y="952560"/>
            <a:ext cx="3706920" cy="46371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28600" y="2590920"/>
            <a:ext cx="1828800" cy="3657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 rot="13669200">
            <a:off x="1409400" y="5142600"/>
            <a:ext cx="1066680" cy="83844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2057400" y="304920"/>
            <a:ext cx="6858000" cy="464796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228600" y="304920"/>
            <a:ext cx="1828800" cy="5943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905120" y="4876920"/>
            <a:ext cx="70102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 rot="18276600">
            <a:off x="6813720" y="3843000"/>
            <a:ext cx="144756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 rot="12852000">
            <a:off x="837720" y="1066320"/>
            <a:ext cx="3640320" cy="301320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 rot="19356600">
            <a:off x="1407600" y="701280"/>
            <a:ext cx="2057400" cy="3962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 rot="2671800">
            <a:off x="2177640" y="1677960"/>
            <a:ext cx="1751040" cy="4575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rot="20031000">
            <a:off x="4633920" y="1676160"/>
            <a:ext cx="757080" cy="127764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 rot="2666400">
            <a:off x="4495320" y="2286000"/>
            <a:ext cx="76320" cy="289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 rot="2666400">
            <a:off x="2960280" y="3759120"/>
            <a:ext cx="152280" cy="2895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1828800" y="6019920"/>
            <a:ext cx="304920" cy="228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228600" y="304920"/>
            <a:ext cx="533412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 rot="5395800">
            <a:off x="5559840" y="300600"/>
            <a:ext cx="2441880" cy="2440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 rot="4016400">
            <a:off x="1910880" y="952560"/>
            <a:ext cx="3706920" cy="46371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228600" y="2590920"/>
            <a:ext cx="1828800" cy="3657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 rot="13669200">
            <a:off x="1409400" y="5142600"/>
            <a:ext cx="1066680" cy="83844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2057400" y="304920"/>
            <a:ext cx="6858000" cy="464796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228600" y="304920"/>
            <a:ext cx="1828800" cy="5943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1905120" y="4876920"/>
            <a:ext cx="70102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 rot="18276600">
            <a:off x="6813720" y="3843000"/>
            <a:ext cx="144756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2057400" y="304920"/>
            <a:ext cx="6858000" cy="4572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 rot="12852000">
            <a:off x="837720" y="1066320"/>
            <a:ext cx="3640320" cy="301320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 rot="19356600">
            <a:off x="1407600" y="701280"/>
            <a:ext cx="2057400" cy="3962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 rot="2671800">
            <a:off x="2177640" y="1677960"/>
            <a:ext cx="1751040" cy="4575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 rot="20031000">
            <a:off x="4633920" y="1676160"/>
            <a:ext cx="757080" cy="127764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 rot="2666400">
            <a:off x="4495320" y="2286000"/>
            <a:ext cx="76320" cy="289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 rot="2666400">
            <a:off x="2960280" y="3759120"/>
            <a:ext cx="152280" cy="2895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1828800" y="6019920"/>
            <a:ext cx="304920" cy="228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" y="304920"/>
            <a:ext cx="533412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5395800">
            <a:off x="5559840" y="300600"/>
            <a:ext cx="2441880" cy="2440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4016400">
            <a:off x="1910880" y="952560"/>
            <a:ext cx="3706920" cy="46371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2590920"/>
            <a:ext cx="1828800" cy="3657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3669200">
            <a:off x="1409400" y="5142600"/>
            <a:ext cx="1066680" cy="83844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1" lang="en-US" sz="20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 x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426708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9880" y="426708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4191120"/>
            <a:ext cx="1371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8600" y="304920"/>
            <a:ext cx="533412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5395800">
            <a:off x="5559840" y="300600"/>
            <a:ext cx="2441880" cy="2440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4016400">
            <a:off x="1910880" y="952560"/>
            <a:ext cx="3706920" cy="46371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2590920"/>
            <a:ext cx="1828800" cy="3657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3669200">
            <a:off x="1409400" y="5142600"/>
            <a:ext cx="1066680" cy="83844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914400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y &gt; x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91120" y="4191120"/>
            <a:ext cx="4952880" cy="2057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473600">
            <a:off x="5516640" y="220320"/>
            <a:ext cx="3798720" cy="4282920"/>
          </a:xfrm>
          <a:prstGeom prst="triangle">
            <a:avLst>
              <a:gd name="adj" fmla="val 4275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924680" y="304920"/>
            <a:ext cx="1219320" cy="396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8148000">
            <a:off x="4952880" y="2971440"/>
            <a:ext cx="2190960" cy="312408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057400" y="304920"/>
            <a:ext cx="5943600" cy="5943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16146600">
            <a:off x="2090520" y="3695400"/>
            <a:ext cx="2517840" cy="259092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0" y="0"/>
            <a:ext cx="914400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y &lt; x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9880" y="4114800"/>
            <a:ext cx="1371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4:19Z</dcterms:modified>
  <cp:revision>11</cp:revision>
  <dc:subject/>
  <dc:title>No Slide Title</dc:title>
</cp:coreProperties>
</file>