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E65-F851-477A-847A-2626A733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7D4-8251-4037-9B72-5EBD5D7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8FB-0632-4CE3-A424-9BA32218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DF0-869E-44F1-8B4A-D2486018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4ED-DB57-4430-962B-39647FA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6F2-1A26-41F8-A497-3C2ACF6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3A4-AC84-44C7-9413-FE82A262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90E-BC65-40E2-A1E2-A187D4D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DC1-9746-4A66-B7E7-A9A4131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D50-C43D-466B-9162-89566D6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2F2-FD86-4D32-B037-FEC682F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9F0-132E-4C56-BBB2-10CDF73E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1DB-854E-45ED-990C-1147E7CC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228600"/>
            <a:ext cx="78487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D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UBTRAC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ATIONAL EXPRESS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90720" y="1905120"/>
                <a:ext cx="7010280" cy="36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3520" y="2209680"/>
                <a:ext cx="830556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0880" y="1676520"/>
                <a:ext cx="8124840" cy="36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" y="2057400"/>
                <a:ext cx="832320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080" y="2378160"/>
                <a:ext cx="89773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3520" y="2057400"/>
                <a:ext cx="814212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19320" y="1371600"/>
                <a:ext cx="67784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4267080"/>
                <a:ext cx="6553440" cy="22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3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28800" y="1752480"/>
                <a:ext cx="571500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920" y="2286000"/>
                <a:ext cx="809136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0880" y="1219320"/>
                <a:ext cx="80330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0880" y="4191120"/>
                <a:ext cx="835668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3880" y="1744560"/>
                <a:ext cx="61722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77880" y="1168560"/>
                <a:ext cx="583560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3776760"/>
                <a:ext cx="525780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47920" y="1219320"/>
                <a:ext cx="610056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438280" y="3733920"/>
                <a:ext cx="3276720" cy="28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2286000"/>
                <a:ext cx="809136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1371600"/>
                <a:ext cx="71690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04920" y="4038480"/>
                <a:ext cx="861048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41720" y="1295280"/>
                <a:ext cx="458460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057400" y="3809880"/>
                <a:ext cx="45180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4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38280" y="1981080"/>
                <a:ext cx="4267440" cy="34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1905120"/>
                <a:ext cx="4800600" cy="29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28600" y="2057400"/>
                <a:ext cx="8629560" cy="29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38320" y="1744560"/>
                <a:ext cx="514368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19400" y="1905120"/>
                <a:ext cx="4629240" cy="29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2362320"/>
                <a:ext cx="8610480" cy="24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1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35080" y="2362320"/>
                <a:ext cx="8751600" cy="24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23880" y="1579680"/>
                <a:ext cx="6172200" cy="41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4:49Z</dcterms:modified>
  <cp:revision>9</cp:revision>
  <dc:subject/>
  <dc:title>No Slide Title</dc:title>
</cp:coreProperties>
</file>