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41C-E61E-41CC-BF5D-47506453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AA7-2E5F-422E-8C56-14CD3A06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90E-EEAA-4805-900C-36B7ABB2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E9C-4324-4D48-B696-19FBF1D0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5BF-9645-48AE-98FB-2178D623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186-159C-4A6E-8A7F-B1A12DE2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289-3767-46A2-BEB7-762F740B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C4D-07AD-4C60-A733-75AE71A3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CAE-AF52-48C7-A132-F09DCF2C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DD7-7BDE-428A-A914-9D061861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836-C532-4A73-9BE1-7A6219A0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FB7-52A5-4A07-A431-C1E03E9C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7459-7619-4287-9107-8A45ACBB8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752480"/>
            <a:ext cx="73152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Similar Figu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Bobo did as he was told and foun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C =0.6 mi.   CE = 0.4 mi.    DE = 0.8 m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16160" y="2065320"/>
            <a:ext cx="3602160" cy="4130640"/>
          </a:xfrm>
          <a:custGeom>
            <a:avLst/>
            <a:gdLst/>
            <a:ahLst/>
            <a:rect l="l" t="t" r="r" b="b"/>
            <a:pathLst>
              <a:path w="2269" h="2602">
                <a:moveTo>
                  <a:pt x="564" y="150"/>
                </a:moveTo>
                <a:cubicBezTo>
                  <a:pt x="489" y="122"/>
                  <a:pt x="402" y="147"/>
                  <a:pt x="325" y="157"/>
                </a:cubicBezTo>
                <a:cubicBezTo>
                  <a:pt x="295" y="166"/>
                  <a:pt x="265" y="177"/>
                  <a:pt x="235" y="187"/>
                </a:cubicBezTo>
                <a:cubicBezTo>
                  <a:pt x="189" y="217"/>
                  <a:pt x="174" y="255"/>
                  <a:pt x="145" y="299"/>
                </a:cubicBezTo>
                <a:cubicBezTo>
                  <a:pt x="133" y="350"/>
                  <a:pt x="117" y="397"/>
                  <a:pt x="108" y="449"/>
                </a:cubicBezTo>
                <a:cubicBezTo>
                  <a:pt x="95" y="608"/>
                  <a:pt x="81" y="778"/>
                  <a:pt x="48" y="935"/>
                </a:cubicBezTo>
                <a:cubicBezTo>
                  <a:pt x="40" y="1007"/>
                  <a:pt x="28" y="1079"/>
                  <a:pt x="18" y="1152"/>
                </a:cubicBezTo>
                <a:cubicBezTo>
                  <a:pt x="4" y="1339"/>
                  <a:pt x="0" y="1526"/>
                  <a:pt x="41" y="1712"/>
                </a:cubicBezTo>
                <a:cubicBezTo>
                  <a:pt x="46" y="1771"/>
                  <a:pt x="54" y="1826"/>
                  <a:pt x="71" y="1884"/>
                </a:cubicBezTo>
                <a:cubicBezTo>
                  <a:pt x="80" y="1916"/>
                  <a:pt x="94" y="1948"/>
                  <a:pt x="101" y="1982"/>
                </a:cubicBezTo>
                <a:cubicBezTo>
                  <a:pt x="107" y="2019"/>
                  <a:pt x="112" y="2050"/>
                  <a:pt x="123" y="2086"/>
                </a:cubicBezTo>
                <a:cubicBezTo>
                  <a:pt x="135" y="2127"/>
                  <a:pt x="156" y="2167"/>
                  <a:pt x="175" y="2206"/>
                </a:cubicBezTo>
                <a:cubicBezTo>
                  <a:pt x="186" y="2229"/>
                  <a:pt x="235" y="2258"/>
                  <a:pt x="235" y="2258"/>
                </a:cubicBezTo>
                <a:cubicBezTo>
                  <a:pt x="252" y="2284"/>
                  <a:pt x="269" y="2300"/>
                  <a:pt x="295" y="2318"/>
                </a:cubicBezTo>
                <a:cubicBezTo>
                  <a:pt x="316" y="2349"/>
                  <a:pt x="350" y="2358"/>
                  <a:pt x="377" y="2385"/>
                </a:cubicBezTo>
                <a:cubicBezTo>
                  <a:pt x="427" y="2435"/>
                  <a:pt x="478" y="2463"/>
                  <a:pt x="542" y="2490"/>
                </a:cubicBezTo>
                <a:cubicBezTo>
                  <a:pt x="552" y="2494"/>
                  <a:pt x="562" y="2499"/>
                  <a:pt x="572" y="2505"/>
                </a:cubicBezTo>
                <a:cubicBezTo>
                  <a:pt x="579" y="2509"/>
                  <a:pt x="585" y="2516"/>
                  <a:pt x="594" y="2520"/>
                </a:cubicBezTo>
                <a:cubicBezTo>
                  <a:pt x="638" y="2538"/>
                  <a:pt x="690" y="2541"/>
                  <a:pt x="736" y="2557"/>
                </a:cubicBezTo>
                <a:cubicBezTo>
                  <a:pt x="801" y="2578"/>
                  <a:pt x="861" y="2594"/>
                  <a:pt x="931" y="2602"/>
                </a:cubicBezTo>
                <a:cubicBezTo>
                  <a:pt x="1029" y="2596"/>
                  <a:pt x="1100" y="2586"/>
                  <a:pt x="1192" y="2565"/>
                </a:cubicBezTo>
                <a:cubicBezTo>
                  <a:pt x="1202" y="2560"/>
                  <a:pt x="1211" y="2553"/>
                  <a:pt x="1222" y="2550"/>
                </a:cubicBezTo>
                <a:cubicBezTo>
                  <a:pt x="1234" y="2545"/>
                  <a:pt x="1247" y="2546"/>
                  <a:pt x="1260" y="2542"/>
                </a:cubicBezTo>
                <a:cubicBezTo>
                  <a:pt x="1268" y="2538"/>
                  <a:pt x="1273" y="2530"/>
                  <a:pt x="1282" y="2527"/>
                </a:cubicBezTo>
                <a:cubicBezTo>
                  <a:pt x="1338" y="2501"/>
                  <a:pt x="1409" y="2486"/>
                  <a:pt x="1469" y="2468"/>
                </a:cubicBezTo>
                <a:cubicBezTo>
                  <a:pt x="1531" y="2425"/>
                  <a:pt x="1433" y="2489"/>
                  <a:pt x="1536" y="2438"/>
                </a:cubicBezTo>
                <a:cubicBezTo>
                  <a:pt x="1586" y="2412"/>
                  <a:pt x="1637" y="2385"/>
                  <a:pt x="1686" y="2355"/>
                </a:cubicBezTo>
                <a:cubicBezTo>
                  <a:pt x="1748" y="2315"/>
                  <a:pt x="1781" y="2252"/>
                  <a:pt x="1843" y="2213"/>
                </a:cubicBezTo>
                <a:cubicBezTo>
                  <a:pt x="1853" y="2196"/>
                  <a:pt x="1869" y="2184"/>
                  <a:pt x="1880" y="2168"/>
                </a:cubicBezTo>
                <a:cubicBezTo>
                  <a:pt x="1904" y="2130"/>
                  <a:pt x="1914" y="2090"/>
                  <a:pt x="1947" y="2056"/>
                </a:cubicBezTo>
                <a:cubicBezTo>
                  <a:pt x="1959" y="2007"/>
                  <a:pt x="1987" y="1949"/>
                  <a:pt x="2022" y="1914"/>
                </a:cubicBezTo>
                <a:cubicBezTo>
                  <a:pt x="2051" y="1834"/>
                  <a:pt x="2036" y="1749"/>
                  <a:pt x="2052" y="1667"/>
                </a:cubicBezTo>
                <a:cubicBezTo>
                  <a:pt x="2066" y="1587"/>
                  <a:pt x="2136" y="1448"/>
                  <a:pt x="2194" y="1391"/>
                </a:cubicBezTo>
                <a:cubicBezTo>
                  <a:pt x="2213" y="1333"/>
                  <a:pt x="2233" y="1276"/>
                  <a:pt x="2254" y="1219"/>
                </a:cubicBezTo>
                <a:cubicBezTo>
                  <a:pt x="2258" y="1178"/>
                  <a:pt x="2269" y="1139"/>
                  <a:pt x="2269" y="1099"/>
                </a:cubicBezTo>
                <a:cubicBezTo>
                  <a:pt x="2269" y="962"/>
                  <a:pt x="2238" y="823"/>
                  <a:pt x="2224" y="688"/>
                </a:cubicBezTo>
                <a:cubicBezTo>
                  <a:pt x="2236" y="550"/>
                  <a:pt x="2252" y="417"/>
                  <a:pt x="2209" y="284"/>
                </a:cubicBezTo>
                <a:cubicBezTo>
                  <a:pt x="2197" y="249"/>
                  <a:pt x="2187" y="214"/>
                  <a:pt x="2157" y="194"/>
                </a:cubicBezTo>
                <a:cubicBezTo>
                  <a:pt x="2104" y="117"/>
                  <a:pt x="2029" y="105"/>
                  <a:pt x="1947" y="82"/>
                </a:cubicBezTo>
                <a:cubicBezTo>
                  <a:pt x="1759" y="27"/>
                  <a:pt x="1557" y="29"/>
                  <a:pt x="1364" y="0"/>
                </a:cubicBezTo>
                <a:cubicBezTo>
                  <a:pt x="1229" y="4"/>
                  <a:pt x="1106" y="11"/>
                  <a:pt x="975" y="30"/>
                </a:cubicBezTo>
                <a:cubicBezTo>
                  <a:pt x="922" y="37"/>
                  <a:pt x="818" y="52"/>
                  <a:pt x="818" y="52"/>
                </a:cubicBezTo>
                <a:cubicBezTo>
                  <a:pt x="741" y="79"/>
                  <a:pt x="664" y="102"/>
                  <a:pt x="587" y="127"/>
                </a:cubicBezTo>
                <a:cubicBezTo>
                  <a:pt x="561" y="143"/>
                  <a:pt x="564" y="132"/>
                  <a:pt x="564" y="150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886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124080"/>
            <a:ext cx="0" cy="198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105520"/>
            <a:ext cx="17524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371600" y="3124080"/>
            <a:ext cx="5410080" cy="198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3124080"/>
            <a:ext cx="36576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304920"/>
            <a:ext cx="91440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FIND THE DISTANCE ACROSS THE L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C =0.6 mi.   CE = 0.4 mi.    DE = 0.8 m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16160" y="2065320"/>
            <a:ext cx="3602160" cy="4130640"/>
          </a:xfrm>
          <a:custGeom>
            <a:avLst/>
            <a:gdLst/>
            <a:ahLst/>
            <a:rect l="l" t="t" r="r" b="b"/>
            <a:pathLst>
              <a:path w="2269" h="2602">
                <a:moveTo>
                  <a:pt x="564" y="150"/>
                </a:moveTo>
                <a:cubicBezTo>
                  <a:pt x="489" y="122"/>
                  <a:pt x="402" y="147"/>
                  <a:pt x="325" y="157"/>
                </a:cubicBezTo>
                <a:cubicBezTo>
                  <a:pt x="295" y="166"/>
                  <a:pt x="265" y="177"/>
                  <a:pt x="235" y="187"/>
                </a:cubicBezTo>
                <a:cubicBezTo>
                  <a:pt x="189" y="217"/>
                  <a:pt x="174" y="255"/>
                  <a:pt x="145" y="299"/>
                </a:cubicBezTo>
                <a:cubicBezTo>
                  <a:pt x="133" y="350"/>
                  <a:pt x="117" y="397"/>
                  <a:pt x="108" y="449"/>
                </a:cubicBezTo>
                <a:cubicBezTo>
                  <a:pt x="95" y="608"/>
                  <a:pt x="81" y="778"/>
                  <a:pt x="48" y="935"/>
                </a:cubicBezTo>
                <a:cubicBezTo>
                  <a:pt x="40" y="1007"/>
                  <a:pt x="28" y="1079"/>
                  <a:pt x="18" y="1152"/>
                </a:cubicBezTo>
                <a:cubicBezTo>
                  <a:pt x="4" y="1339"/>
                  <a:pt x="0" y="1526"/>
                  <a:pt x="41" y="1712"/>
                </a:cubicBezTo>
                <a:cubicBezTo>
                  <a:pt x="46" y="1771"/>
                  <a:pt x="54" y="1826"/>
                  <a:pt x="71" y="1884"/>
                </a:cubicBezTo>
                <a:cubicBezTo>
                  <a:pt x="80" y="1916"/>
                  <a:pt x="94" y="1948"/>
                  <a:pt x="101" y="1982"/>
                </a:cubicBezTo>
                <a:cubicBezTo>
                  <a:pt x="107" y="2019"/>
                  <a:pt x="112" y="2050"/>
                  <a:pt x="123" y="2086"/>
                </a:cubicBezTo>
                <a:cubicBezTo>
                  <a:pt x="135" y="2127"/>
                  <a:pt x="156" y="2167"/>
                  <a:pt x="175" y="2206"/>
                </a:cubicBezTo>
                <a:cubicBezTo>
                  <a:pt x="186" y="2229"/>
                  <a:pt x="235" y="2258"/>
                  <a:pt x="235" y="2258"/>
                </a:cubicBezTo>
                <a:cubicBezTo>
                  <a:pt x="252" y="2284"/>
                  <a:pt x="269" y="2300"/>
                  <a:pt x="295" y="2318"/>
                </a:cubicBezTo>
                <a:cubicBezTo>
                  <a:pt x="316" y="2349"/>
                  <a:pt x="350" y="2358"/>
                  <a:pt x="377" y="2385"/>
                </a:cubicBezTo>
                <a:cubicBezTo>
                  <a:pt x="427" y="2435"/>
                  <a:pt x="478" y="2463"/>
                  <a:pt x="542" y="2490"/>
                </a:cubicBezTo>
                <a:cubicBezTo>
                  <a:pt x="552" y="2494"/>
                  <a:pt x="562" y="2499"/>
                  <a:pt x="572" y="2505"/>
                </a:cubicBezTo>
                <a:cubicBezTo>
                  <a:pt x="579" y="2509"/>
                  <a:pt x="585" y="2516"/>
                  <a:pt x="594" y="2520"/>
                </a:cubicBezTo>
                <a:cubicBezTo>
                  <a:pt x="638" y="2538"/>
                  <a:pt x="690" y="2541"/>
                  <a:pt x="736" y="2557"/>
                </a:cubicBezTo>
                <a:cubicBezTo>
                  <a:pt x="801" y="2578"/>
                  <a:pt x="861" y="2594"/>
                  <a:pt x="931" y="2602"/>
                </a:cubicBezTo>
                <a:cubicBezTo>
                  <a:pt x="1029" y="2596"/>
                  <a:pt x="1100" y="2586"/>
                  <a:pt x="1192" y="2565"/>
                </a:cubicBezTo>
                <a:cubicBezTo>
                  <a:pt x="1202" y="2560"/>
                  <a:pt x="1211" y="2553"/>
                  <a:pt x="1222" y="2550"/>
                </a:cubicBezTo>
                <a:cubicBezTo>
                  <a:pt x="1234" y="2545"/>
                  <a:pt x="1247" y="2546"/>
                  <a:pt x="1260" y="2542"/>
                </a:cubicBezTo>
                <a:cubicBezTo>
                  <a:pt x="1268" y="2538"/>
                  <a:pt x="1273" y="2530"/>
                  <a:pt x="1282" y="2527"/>
                </a:cubicBezTo>
                <a:cubicBezTo>
                  <a:pt x="1338" y="2501"/>
                  <a:pt x="1409" y="2486"/>
                  <a:pt x="1469" y="2468"/>
                </a:cubicBezTo>
                <a:cubicBezTo>
                  <a:pt x="1531" y="2425"/>
                  <a:pt x="1433" y="2489"/>
                  <a:pt x="1536" y="2438"/>
                </a:cubicBezTo>
                <a:cubicBezTo>
                  <a:pt x="1586" y="2412"/>
                  <a:pt x="1637" y="2385"/>
                  <a:pt x="1686" y="2355"/>
                </a:cubicBezTo>
                <a:cubicBezTo>
                  <a:pt x="1748" y="2315"/>
                  <a:pt x="1781" y="2252"/>
                  <a:pt x="1843" y="2213"/>
                </a:cubicBezTo>
                <a:cubicBezTo>
                  <a:pt x="1853" y="2196"/>
                  <a:pt x="1869" y="2184"/>
                  <a:pt x="1880" y="2168"/>
                </a:cubicBezTo>
                <a:cubicBezTo>
                  <a:pt x="1904" y="2130"/>
                  <a:pt x="1914" y="2090"/>
                  <a:pt x="1947" y="2056"/>
                </a:cubicBezTo>
                <a:cubicBezTo>
                  <a:pt x="1959" y="2007"/>
                  <a:pt x="1987" y="1949"/>
                  <a:pt x="2022" y="1914"/>
                </a:cubicBezTo>
                <a:cubicBezTo>
                  <a:pt x="2051" y="1834"/>
                  <a:pt x="2036" y="1749"/>
                  <a:pt x="2052" y="1667"/>
                </a:cubicBezTo>
                <a:cubicBezTo>
                  <a:pt x="2066" y="1587"/>
                  <a:pt x="2136" y="1448"/>
                  <a:pt x="2194" y="1391"/>
                </a:cubicBezTo>
                <a:cubicBezTo>
                  <a:pt x="2213" y="1333"/>
                  <a:pt x="2233" y="1276"/>
                  <a:pt x="2254" y="1219"/>
                </a:cubicBezTo>
                <a:cubicBezTo>
                  <a:pt x="2258" y="1178"/>
                  <a:pt x="2269" y="1139"/>
                  <a:pt x="2269" y="1099"/>
                </a:cubicBezTo>
                <a:cubicBezTo>
                  <a:pt x="2269" y="962"/>
                  <a:pt x="2238" y="823"/>
                  <a:pt x="2224" y="688"/>
                </a:cubicBezTo>
                <a:cubicBezTo>
                  <a:pt x="2236" y="550"/>
                  <a:pt x="2252" y="417"/>
                  <a:pt x="2209" y="284"/>
                </a:cubicBezTo>
                <a:cubicBezTo>
                  <a:pt x="2197" y="249"/>
                  <a:pt x="2187" y="214"/>
                  <a:pt x="2157" y="194"/>
                </a:cubicBezTo>
                <a:cubicBezTo>
                  <a:pt x="2104" y="117"/>
                  <a:pt x="2029" y="105"/>
                  <a:pt x="1947" y="82"/>
                </a:cubicBezTo>
                <a:cubicBezTo>
                  <a:pt x="1759" y="27"/>
                  <a:pt x="1557" y="29"/>
                  <a:pt x="1364" y="0"/>
                </a:cubicBezTo>
                <a:cubicBezTo>
                  <a:pt x="1229" y="4"/>
                  <a:pt x="1106" y="11"/>
                  <a:pt x="975" y="30"/>
                </a:cubicBezTo>
                <a:cubicBezTo>
                  <a:pt x="922" y="37"/>
                  <a:pt x="818" y="52"/>
                  <a:pt x="818" y="52"/>
                </a:cubicBezTo>
                <a:cubicBezTo>
                  <a:pt x="741" y="79"/>
                  <a:pt x="664" y="102"/>
                  <a:pt x="587" y="127"/>
                </a:cubicBezTo>
                <a:cubicBezTo>
                  <a:pt x="561" y="143"/>
                  <a:pt x="564" y="132"/>
                  <a:pt x="564" y="150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886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3124080"/>
            <a:ext cx="0" cy="198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5105520"/>
            <a:ext cx="17524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371600" y="3124080"/>
            <a:ext cx="5410080" cy="198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3124080"/>
            <a:ext cx="36576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26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IMILAR TRIANGLES #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rite a proportion and find the value of the missing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4419720"/>
            <a:ext cx="914400" cy="1218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3048120"/>
            <a:ext cx="1905120" cy="274320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5638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4648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5791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7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191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IMILAR TRIANGLES #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rite a proportion and find the length of the missing si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BC ~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9860000">
            <a:off x="5029200" y="3657240"/>
            <a:ext cx="3484440" cy="2206800"/>
          </a:xfrm>
          <a:prstGeom prst="rtTriangl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191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743200"/>
            <a:ext cx="380880" cy="3808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743200"/>
            <a:ext cx="380880" cy="3808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429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434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429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6216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4191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0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5562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860000">
            <a:off x="1633680" y="3045960"/>
            <a:ext cx="2133360" cy="1371600"/>
          </a:xfrm>
          <a:prstGeom prst="rtTriangl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1880" y="4267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IMILAR TRIANGLES #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rite a proportion and find the length of the missing si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BC ~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860000">
            <a:off x="2306520" y="2364840"/>
            <a:ext cx="4953240" cy="3124440"/>
          </a:xfrm>
          <a:prstGeom prst="rtTriangl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419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0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2743200"/>
            <a:ext cx="380880" cy="3808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743200"/>
            <a:ext cx="380880" cy="3808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895480" y="3962160"/>
            <a:ext cx="281952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3429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6216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3352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35812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7150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4343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0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5181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IMILAR TRIANGLES #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Write a proportion and find the length of the missing 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HI ~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J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7314600">
            <a:off x="2685600" y="3433320"/>
            <a:ext cx="3276720" cy="5257800"/>
          </a:xfrm>
          <a:prstGeom prst="rtTriangl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4191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2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2514600"/>
            <a:ext cx="380880" cy="3808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2514600"/>
            <a:ext cx="380880" cy="3808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3886200"/>
            <a:ext cx="1371600" cy="2209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971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791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6019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57913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352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4343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7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048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IMILAR TRIANGLES #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Find the length of the missing 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QR ~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657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905120"/>
            <a:ext cx="380880" cy="3808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1905120"/>
            <a:ext cx="381240" cy="3808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019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39625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4419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819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4114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038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6520" y="3352680"/>
            <a:ext cx="5257800" cy="2971440"/>
            <a:chOff x="1676520" y="3352680"/>
            <a:chExt cx="5257800" cy="2971440"/>
          </a:xfrm>
        </p:grpSpPr>
        <p:sp>
          <p:nvSpPr>
            <p:cNvPr id="105" name=""/>
            <p:cNvSpPr/>
            <p:nvPr/>
          </p:nvSpPr>
          <p:spPr>
            <a:xfrm>
              <a:off x="1676520" y="3352680"/>
              <a:ext cx="1981080" cy="1218960"/>
            </a:xfrm>
            <a:prstGeom prst="rtTriangle">
              <a:avLst/>
            </a:prstGeom>
            <a:solidFill>
              <a:srgbClr val="6600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3657600" y="4571280"/>
              <a:ext cx="3276720" cy="1752840"/>
            </a:xfrm>
            <a:prstGeom prst="rtTriangle">
              <a:avLst/>
            </a:prstGeom>
            <a:solidFill>
              <a:srgbClr val="6600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IMILAR TRIANGLES #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Find the height of the t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6120" y="1969920"/>
            <a:ext cx="2622600" cy="4073760"/>
          </a:xfrm>
          <a:custGeom>
            <a:avLst/>
            <a:gdLst/>
            <a:ahLst/>
            <a:rect l="l" t="t" r="r" b="b"/>
            <a:pathLst>
              <a:path w="1652" h="2566">
                <a:moveTo>
                  <a:pt x="612" y="45"/>
                </a:moveTo>
                <a:cubicBezTo>
                  <a:pt x="564" y="118"/>
                  <a:pt x="623" y="22"/>
                  <a:pt x="590" y="90"/>
                </a:cubicBezTo>
                <a:cubicBezTo>
                  <a:pt x="582" y="105"/>
                  <a:pt x="550" y="141"/>
                  <a:pt x="545" y="150"/>
                </a:cubicBezTo>
                <a:cubicBezTo>
                  <a:pt x="503" y="212"/>
                  <a:pt x="549" y="151"/>
                  <a:pt x="522" y="202"/>
                </a:cubicBezTo>
                <a:cubicBezTo>
                  <a:pt x="500" y="240"/>
                  <a:pt x="474" y="275"/>
                  <a:pt x="455" y="314"/>
                </a:cubicBezTo>
                <a:cubicBezTo>
                  <a:pt x="441" y="341"/>
                  <a:pt x="418" y="362"/>
                  <a:pt x="403" y="389"/>
                </a:cubicBezTo>
                <a:cubicBezTo>
                  <a:pt x="393" y="404"/>
                  <a:pt x="373" y="434"/>
                  <a:pt x="373" y="434"/>
                </a:cubicBezTo>
                <a:cubicBezTo>
                  <a:pt x="383" y="439"/>
                  <a:pt x="391" y="448"/>
                  <a:pt x="403" y="449"/>
                </a:cubicBezTo>
                <a:cubicBezTo>
                  <a:pt x="440" y="450"/>
                  <a:pt x="479" y="430"/>
                  <a:pt x="515" y="441"/>
                </a:cubicBezTo>
                <a:cubicBezTo>
                  <a:pt x="527" y="444"/>
                  <a:pt x="510" y="466"/>
                  <a:pt x="507" y="479"/>
                </a:cubicBezTo>
                <a:cubicBezTo>
                  <a:pt x="502" y="494"/>
                  <a:pt x="498" y="509"/>
                  <a:pt x="493" y="524"/>
                </a:cubicBezTo>
                <a:cubicBezTo>
                  <a:pt x="479" y="562"/>
                  <a:pt x="451" y="591"/>
                  <a:pt x="433" y="628"/>
                </a:cubicBezTo>
                <a:cubicBezTo>
                  <a:pt x="409" y="674"/>
                  <a:pt x="379" y="726"/>
                  <a:pt x="350" y="770"/>
                </a:cubicBezTo>
                <a:cubicBezTo>
                  <a:pt x="337" y="809"/>
                  <a:pt x="347" y="787"/>
                  <a:pt x="313" y="838"/>
                </a:cubicBezTo>
                <a:cubicBezTo>
                  <a:pt x="308" y="845"/>
                  <a:pt x="298" y="860"/>
                  <a:pt x="298" y="860"/>
                </a:cubicBezTo>
                <a:cubicBezTo>
                  <a:pt x="290" y="885"/>
                  <a:pt x="283" y="904"/>
                  <a:pt x="268" y="927"/>
                </a:cubicBezTo>
                <a:cubicBezTo>
                  <a:pt x="265" y="934"/>
                  <a:pt x="258" y="942"/>
                  <a:pt x="261" y="950"/>
                </a:cubicBezTo>
                <a:cubicBezTo>
                  <a:pt x="270" y="974"/>
                  <a:pt x="392" y="978"/>
                  <a:pt x="403" y="980"/>
                </a:cubicBezTo>
                <a:cubicBezTo>
                  <a:pt x="413" y="982"/>
                  <a:pt x="431" y="976"/>
                  <a:pt x="433" y="987"/>
                </a:cubicBezTo>
                <a:cubicBezTo>
                  <a:pt x="435" y="999"/>
                  <a:pt x="416" y="1006"/>
                  <a:pt x="410" y="1017"/>
                </a:cubicBezTo>
                <a:cubicBezTo>
                  <a:pt x="396" y="1041"/>
                  <a:pt x="388" y="1067"/>
                  <a:pt x="373" y="1092"/>
                </a:cubicBezTo>
                <a:cubicBezTo>
                  <a:pt x="361" y="1136"/>
                  <a:pt x="342" y="1178"/>
                  <a:pt x="321" y="1219"/>
                </a:cubicBezTo>
                <a:cubicBezTo>
                  <a:pt x="293" y="1271"/>
                  <a:pt x="332" y="1209"/>
                  <a:pt x="306" y="1264"/>
                </a:cubicBezTo>
                <a:cubicBezTo>
                  <a:pt x="289" y="1298"/>
                  <a:pt x="292" y="1275"/>
                  <a:pt x="268" y="1309"/>
                </a:cubicBezTo>
                <a:cubicBezTo>
                  <a:pt x="251" y="1332"/>
                  <a:pt x="239" y="1359"/>
                  <a:pt x="223" y="1384"/>
                </a:cubicBezTo>
                <a:cubicBezTo>
                  <a:pt x="218" y="1391"/>
                  <a:pt x="208" y="1406"/>
                  <a:pt x="208" y="1406"/>
                </a:cubicBezTo>
                <a:cubicBezTo>
                  <a:pt x="189" y="1462"/>
                  <a:pt x="202" y="1438"/>
                  <a:pt x="171" y="1481"/>
                </a:cubicBezTo>
                <a:cubicBezTo>
                  <a:pt x="217" y="1527"/>
                  <a:pt x="176" y="1496"/>
                  <a:pt x="291" y="1511"/>
                </a:cubicBezTo>
                <a:cubicBezTo>
                  <a:pt x="318" y="1514"/>
                  <a:pt x="373" y="1526"/>
                  <a:pt x="373" y="1526"/>
                </a:cubicBezTo>
                <a:cubicBezTo>
                  <a:pt x="362" y="1563"/>
                  <a:pt x="333" y="1587"/>
                  <a:pt x="321" y="1623"/>
                </a:cubicBezTo>
                <a:cubicBezTo>
                  <a:pt x="311" y="1650"/>
                  <a:pt x="298" y="1673"/>
                  <a:pt x="283" y="1698"/>
                </a:cubicBezTo>
                <a:cubicBezTo>
                  <a:pt x="267" y="1745"/>
                  <a:pt x="288" y="1693"/>
                  <a:pt x="253" y="1742"/>
                </a:cubicBezTo>
                <a:cubicBezTo>
                  <a:pt x="224" y="1781"/>
                  <a:pt x="212" y="1830"/>
                  <a:pt x="186" y="1870"/>
                </a:cubicBezTo>
                <a:cubicBezTo>
                  <a:pt x="172" y="1913"/>
                  <a:pt x="161" y="1952"/>
                  <a:pt x="134" y="1989"/>
                </a:cubicBezTo>
                <a:cubicBezTo>
                  <a:pt x="114" y="2045"/>
                  <a:pt x="69" y="2096"/>
                  <a:pt x="36" y="2146"/>
                </a:cubicBezTo>
                <a:cubicBezTo>
                  <a:pt x="31" y="2161"/>
                  <a:pt x="0" y="2181"/>
                  <a:pt x="14" y="2191"/>
                </a:cubicBezTo>
                <a:cubicBezTo>
                  <a:pt x="48" y="2215"/>
                  <a:pt x="166" y="2217"/>
                  <a:pt x="201" y="2221"/>
                </a:cubicBezTo>
                <a:cubicBezTo>
                  <a:pt x="351" y="2237"/>
                  <a:pt x="499" y="2252"/>
                  <a:pt x="650" y="2266"/>
                </a:cubicBezTo>
                <a:cubicBezTo>
                  <a:pt x="659" y="2268"/>
                  <a:pt x="674" y="2263"/>
                  <a:pt x="679" y="2273"/>
                </a:cubicBezTo>
                <a:cubicBezTo>
                  <a:pt x="689" y="2295"/>
                  <a:pt x="683" y="2323"/>
                  <a:pt x="687" y="2348"/>
                </a:cubicBezTo>
                <a:cubicBezTo>
                  <a:pt x="691" y="2385"/>
                  <a:pt x="697" y="2422"/>
                  <a:pt x="702" y="2460"/>
                </a:cubicBezTo>
                <a:cubicBezTo>
                  <a:pt x="705" y="2487"/>
                  <a:pt x="694" y="2525"/>
                  <a:pt x="717" y="2543"/>
                </a:cubicBezTo>
                <a:cubicBezTo>
                  <a:pt x="734" y="2557"/>
                  <a:pt x="761" y="2552"/>
                  <a:pt x="784" y="2557"/>
                </a:cubicBezTo>
                <a:cubicBezTo>
                  <a:pt x="896" y="2554"/>
                  <a:pt x="1009" y="2566"/>
                  <a:pt x="1121" y="2550"/>
                </a:cubicBezTo>
                <a:cubicBezTo>
                  <a:pt x="1136" y="2547"/>
                  <a:pt x="1136" y="2505"/>
                  <a:pt x="1136" y="2505"/>
                </a:cubicBezTo>
                <a:cubicBezTo>
                  <a:pt x="1138" y="2460"/>
                  <a:pt x="1143" y="2415"/>
                  <a:pt x="1143" y="2371"/>
                </a:cubicBezTo>
                <a:cubicBezTo>
                  <a:pt x="1143" y="2350"/>
                  <a:pt x="1136" y="2331"/>
                  <a:pt x="1136" y="2311"/>
                </a:cubicBezTo>
                <a:cubicBezTo>
                  <a:pt x="1136" y="2234"/>
                  <a:pt x="1337" y="2258"/>
                  <a:pt x="1345" y="2258"/>
                </a:cubicBezTo>
                <a:cubicBezTo>
                  <a:pt x="1447" y="2242"/>
                  <a:pt x="1545" y="2245"/>
                  <a:pt x="1644" y="2214"/>
                </a:cubicBezTo>
                <a:cubicBezTo>
                  <a:pt x="1646" y="2206"/>
                  <a:pt x="1652" y="2198"/>
                  <a:pt x="1651" y="2191"/>
                </a:cubicBezTo>
                <a:cubicBezTo>
                  <a:pt x="1649" y="2183"/>
                  <a:pt x="1619" y="2124"/>
                  <a:pt x="1614" y="2116"/>
                </a:cubicBezTo>
                <a:cubicBezTo>
                  <a:pt x="1598" y="2068"/>
                  <a:pt x="1526" y="1955"/>
                  <a:pt x="1487" y="1914"/>
                </a:cubicBezTo>
                <a:cubicBezTo>
                  <a:pt x="1465" y="1854"/>
                  <a:pt x="1498" y="1934"/>
                  <a:pt x="1457" y="1870"/>
                </a:cubicBezTo>
                <a:cubicBezTo>
                  <a:pt x="1445" y="1851"/>
                  <a:pt x="1442" y="1826"/>
                  <a:pt x="1427" y="1810"/>
                </a:cubicBezTo>
                <a:cubicBezTo>
                  <a:pt x="1392" y="1773"/>
                  <a:pt x="1411" y="1796"/>
                  <a:pt x="1375" y="1742"/>
                </a:cubicBezTo>
                <a:cubicBezTo>
                  <a:pt x="1355" y="1713"/>
                  <a:pt x="1346" y="1678"/>
                  <a:pt x="1322" y="1653"/>
                </a:cubicBezTo>
                <a:cubicBezTo>
                  <a:pt x="1276" y="1606"/>
                  <a:pt x="1306" y="1641"/>
                  <a:pt x="1270" y="1585"/>
                </a:cubicBezTo>
                <a:cubicBezTo>
                  <a:pt x="1260" y="1570"/>
                  <a:pt x="1222" y="1540"/>
                  <a:pt x="1240" y="1541"/>
                </a:cubicBezTo>
                <a:cubicBezTo>
                  <a:pt x="1297" y="1543"/>
                  <a:pt x="1354" y="1545"/>
                  <a:pt x="1412" y="1548"/>
                </a:cubicBezTo>
                <a:cubicBezTo>
                  <a:pt x="1422" y="1550"/>
                  <a:pt x="1432" y="1559"/>
                  <a:pt x="1442" y="1556"/>
                </a:cubicBezTo>
                <a:cubicBezTo>
                  <a:pt x="1449" y="1553"/>
                  <a:pt x="1452" y="1540"/>
                  <a:pt x="1450" y="1533"/>
                </a:cubicBezTo>
                <a:cubicBezTo>
                  <a:pt x="1444" y="1515"/>
                  <a:pt x="1430" y="1502"/>
                  <a:pt x="1420" y="1488"/>
                </a:cubicBezTo>
                <a:cubicBezTo>
                  <a:pt x="1415" y="1480"/>
                  <a:pt x="1407" y="1474"/>
                  <a:pt x="1405" y="1466"/>
                </a:cubicBezTo>
                <a:cubicBezTo>
                  <a:pt x="1402" y="1458"/>
                  <a:pt x="1402" y="1449"/>
                  <a:pt x="1397" y="1443"/>
                </a:cubicBezTo>
                <a:cubicBezTo>
                  <a:pt x="1391" y="1436"/>
                  <a:pt x="1382" y="1433"/>
                  <a:pt x="1375" y="1428"/>
                </a:cubicBezTo>
                <a:cubicBezTo>
                  <a:pt x="1346" y="1386"/>
                  <a:pt x="1323" y="1341"/>
                  <a:pt x="1293" y="1301"/>
                </a:cubicBezTo>
                <a:cubicBezTo>
                  <a:pt x="1285" y="1291"/>
                  <a:pt x="1277" y="1281"/>
                  <a:pt x="1270" y="1271"/>
                </a:cubicBezTo>
                <a:cubicBezTo>
                  <a:pt x="1259" y="1256"/>
                  <a:pt x="1240" y="1227"/>
                  <a:pt x="1240" y="1227"/>
                </a:cubicBezTo>
                <a:cubicBezTo>
                  <a:pt x="1222" y="1171"/>
                  <a:pt x="1248" y="1236"/>
                  <a:pt x="1210" y="1189"/>
                </a:cubicBezTo>
                <a:cubicBezTo>
                  <a:pt x="1205" y="1183"/>
                  <a:pt x="1207" y="1173"/>
                  <a:pt x="1203" y="1167"/>
                </a:cubicBezTo>
                <a:cubicBezTo>
                  <a:pt x="1196" y="1157"/>
                  <a:pt x="1187" y="1151"/>
                  <a:pt x="1180" y="1144"/>
                </a:cubicBezTo>
                <a:cubicBezTo>
                  <a:pt x="1170" y="1114"/>
                  <a:pt x="1161" y="1101"/>
                  <a:pt x="1136" y="1084"/>
                </a:cubicBezTo>
                <a:cubicBezTo>
                  <a:pt x="1103" y="1035"/>
                  <a:pt x="1058" y="1006"/>
                  <a:pt x="1038" y="950"/>
                </a:cubicBezTo>
                <a:cubicBezTo>
                  <a:pt x="1097" y="929"/>
                  <a:pt x="1161" y="951"/>
                  <a:pt x="1225" y="942"/>
                </a:cubicBezTo>
                <a:cubicBezTo>
                  <a:pt x="1211" y="885"/>
                  <a:pt x="1163" y="844"/>
                  <a:pt x="1128" y="800"/>
                </a:cubicBezTo>
                <a:cubicBezTo>
                  <a:pt x="1081" y="742"/>
                  <a:pt x="1043" y="676"/>
                  <a:pt x="1008" y="613"/>
                </a:cubicBezTo>
                <a:cubicBezTo>
                  <a:pt x="986" y="574"/>
                  <a:pt x="958" y="537"/>
                  <a:pt x="934" y="501"/>
                </a:cubicBezTo>
                <a:cubicBezTo>
                  <a:pt x="924" y="486"/>
                  <a:pt x="914" y="471"/>
                  <a:pt x="904" y="456"/>
                </a:cubicBezTo>
                <a:cubicBezTo>
                  <a:pt x="899" y="448"/>
                  <a:pt x="889" y="434"/>
                  <a:pt x="889" y="434"/>
                </a:cubicBezTo>
                <a:cubicBezTo>
                  <a:pt x="933" y="431"/>
                  <a:pt x="979" y="435"/>
                  <a:pt x="1023" y="426"/>
                </a:cubicBezTo>
                <a:cubicBezTo>
                  <a:pt x="1031" y="424"/>
                  <a:pt x="1007" y="417"/>
                  <a:pt x="1001" y="411"/>
                </a:cubicBezTo>
                <a:cubicBezTo>
                  <a:pt x="951" y="361"/>
                  <a:pt x="1022" y="414"/>
                  <a:pt x="964" y="374"/>
                </a:cubicBezTo>
                <a:cubicBezTo>
                  <a:pt x="921" y="312"/>
                  <a:pt x="979" y="390"/>
                  <a:pt x="926" y="337"/>
                </a:cubicBezTo>
                <a:cubicBezTo>
                  <a:pt x="872" y="283"/>
                  <a:pt x="950" y="341"/>
                  <a:pt x="889" y="299"/>
                </a:cubicBezTo>
                <a:cubicBezTo>
                  <a:pt x="884" y="291"/>
                  <a:pt x="880" y="283"/>
                  <a:pt x="874" y="277"/>
                </a:cubicBezTo>
                <a:cubicBezTo>
                  <a:pt x="867" y="270"/>
                  <a:pt x="856" y="268"/>
                  <a:pt x="851" y="262"/>
                </a:cubicBezTo>
                <a:cubicBezTo>
                  <a:pt x="843" y="253"/>
                  <a:pt x="841" y="241"/>
                  <a:pt x="836" y="232"/>
                </a:cubicBezTo>
                <a:cubicBezTo>
                  <a:pt x="811" y="188"/>
                  <a:pt x="833" y="231"/>
                  <a:pt x="799" y="187"/>
                </a:cubicBezTo>
                <a:cubicBezTo>
                  <a:pt x="751" y="126"/>
                  <a:pt x="790" y="156"/>
                  <a:pt x="747" y="127"/>
                </a:cubicBezTo>
                <a:cubicBezTo>
                  <a:pt x="736" y="98"/>
                  <a:pt x="728" y="84"/>
                  <a:pt x="702" y="68"/>
                </a:cubicBezTo>
                <a:cubicBezTo>
                  <a:pt x="693" y="43"/>
                  <a:pt x="679" y="25"/>
                  <a:pt x="672" y="0"/>
                </a:cubicBezTo>
                <a:cubicBezTo>
                  <a:pt x="664" y="2"/>
                  <a:pt x="655" y="2"/>
                  <a:pt x="650" y="8"/>
                </a:cubicBezTo>
                <a:cubicBezTo>
                  <a:pt x="633" y="24"/>
                  <a:pt x="652" y="66"/>
                  <a:pt x="612" y="45"/>
                </a:cubicBezTo>
                <a:close/>
              </a:path>
            </a:pathLst>
          </a:custGeom>
          <a:solidFill>
            <a:srgbClr val="00cc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14800"/>
            <a:ext cx="761760" cy="690480"/>
          </a:xfrm>
          <a:custGeom>
            <a:avLst/>
            <a:gdLst/>
            <a:ahLst/>
            <a:rect l="l" t="t" r="r" b="b"/>
            <a:pathLst>
              <a:path w="480" h="435">
                <a:moveTo>
                  <a:pt x="151" y="32"/>
                </a:moveTo>
                <a:cubicBezTo>
                  <a:pt x="93" y="37"/>
                  <a:pt x="75" y="39"/>
                  <a:pt x="32" y="69"/>
                </a:cubicBezTo>
                <a:cubicBezTo>
                  <a:pt x="27" y="76"/>
                  <a:pt x="20" y="82"/>
                  <a:pt x="17" y="91"/>
                </a:cubicBezTo>
                <a:cubicBezTo>
                  <a:pt x="10" y="105"/>
                  <a:pt x="2" y="136"/>
                  <a:pt x="2" y="136"/>
                </a:cubicBezTo>
                <a:cubicBezTo>
                  <a:pt x="2" y="138"/>
                  <a:pt x="0" y="227"/>
                  <a:pt x="17" y="256"/>
                </a:cubicBezTo>
                <a:cubicBezTo>
                  <a:pt x="76" y="355"/>
                  <a:pt x="170" y="417"/>
                  <a:pt x="286" y="435"/>
                </a:cubicBezTo>
                <a:cubicBezTo>
                  <a:pt x="316" y="432"/>
                  <a:pt x="346" y="433"/>
                  <a:pt x="376" y="428"/>
                </a:cubicBezTo>
                <a:cubicBezTo>
                  <a:pt x="387" y="425"/>
                  <a:pt x="414" y="397"/>
                  <a:pt x="420" y="390"/>
                </a:cubicBezTo>
                <a:cubicBezTo>
                  <a:pt x="457" y="341"/>
                  <a:pt x="469" y="291"/>
                  <a:pt x="480" y="233"/>
                </a:cubicBezTo>
                <a:cubicBezTo>
                  <a:pt x="477" y="200"/>
                  <a:pt x="477" y="168"/>
                  <a:pt x="473" y="136"/>
                </a:cubicBezTo>
                <a:cubicBezTo>
                  <a:pt x="462" y="53"/>
                  <a:pt x="386" y="37"/>
                  <a:pt x="316" y="32"/>
                </a:cubicBezTo>
                <a:cubicBezTo>
                  <a:pt x="164" y="21"/>
                  <a:pt x="209" y="0"/>
                  <a:pt x="151" y="32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7080"/>
            <a:ext cx="1066680" cy="1212840"/>
          </a:xfrm>
          <a:custGeom>
            <a:avLst/>
            <a:gdLst/>
            <a:ahLst/>
            <a:rect l="l" t="t" r="r" b="b"/>
            <a:pathLst>
              <a:path w="756" h="868">
                <a:moveTo>
                  <a:pt x="447" y="0"/>
                </a:moveTo>
                <a:cubicBezTo>
                  <a:pt x="438" y="71"/>
                  <a:pt x="431" y="139"/>
                  <a:pt x="417" y="210"/>
                </a:cubicBezTo>
                <a:cubicBezTo>
                  <a:pt x="332" y="195"/>
                  <a:pt x="255" y="161"/>
                  <a:pt x="170" y="150"/>
                </a:cubicBezTo>
                <a:cubicBezTo>
                  <a:pt x="132" y="131"/>
                  <a:pt x="95" y="127"/>
                  <a:pt x="58" y="112"/>
                </a:cubicBezTo>
                <a:cubicBezTo>
                  <a:pt x="47" y="107"/>
                  <a:pt x="38" y="102"/>
                  <a:pt x="28" y="98"/>
                </a:cubicBezTo>
                <a:cubicBezTo>
                  <a:pt x="20" y="94"/>
                  <a:pt x="0" y="84"/>
                  <a:pt x="6" y="90"/>
                </a:cubicBezTo>
                <a:cubicBezTo>
                  <a:pt x="22" y="104"/>
                  <a:pt x="46" y="107"/>
                  <a:pt x="66" y="112"/>
                </a:cubicBezTo>
                <a:cubicBezTo>
                  <a:pt x="150" y="154"/>
                  <a:pt x="256" y="206"/>
                  <a:pt x="350" y="217"/>
                </a:cubicBezTo>
                <a:cubicBezTo>
                  <a:pt x="423" y="243"/>
                  <a:pt x="506" y="220"/>
                  <a:pt x="582" y="210"/>
                </a:cubicBezTo>
                <a:cubicBezTo>
                  <a:pt x="619" y="199"/>
                  <a:pt x="656" y="190"/>
                  <a:pt x="694" y="180"/>
                </a:cubicBezTo>
                <a:cubicBezTo>
                  <a:pt x="701" y="177"/>
                  <a:pt x="708" y="174"/>
                  <a:pt x="716" y="172"/>
                </a:cubicBezTo>
                <a:cubicBezTo>
                  <a:pt x="725" y="169"/>
                  <a:pt x="756" y="165"/>
                  <a:pt x="746" y="165"/>
                </a:cubicBezTo>
                <a:cubicBezTo>
                  <a:pt x="718" y="165"/>
                  <a:pt x="691" y="169"/>
                  <a:pt x="664" y="172"/>
                </a:cubicBezTo>
                <a:cubicBezTo>
                  <a:pt x="585" y="193"/>
                  <a:pt x="505" y="201"/>
                  <a:pt x="425" y="217"/>
                </a:cubicBezTo>
                <a:cubicBezTo>
                  <a:pt x="406" y="269"/>
                  <a:pt x="411" y="312"/>
                  <a:pt x="417" y="367"/>
                </a:cubicBezTo>
                <a:cubicBezTo>
                  <a:pt x="414" y="382"/>
                  <a:pt x="416" y="398"/>
                  <a:pt x="410" y="412"/>
                </a:cubicBezTo>
                <a:cubicBezTo>
                  <a:pt x="389" y="456"/>
                  <a:pt x="384" y="439"/>
                  <a:pt x="357" y="464"/>
                </a:cubicBezTo>
                <a:cubicBezTo>
                  <a:pt x="307" y="507"/>
                  <a:pt x="270" y="570"/>
                  <a:pt x="215" y="606"/>
                </a:cubicBezTo>
                <a:cubicBezTo>
                  <a:pt x="194" y="635"/>
                  <a:pt x="160" y="661"/>
                  <a:pt x="148" y="696"/>
                </a:cubicBezTo>
                <a:cubicBezTo>
                  <a:pt x="136" y="726"/>
                  <a:pt x="144" y="711"/>
                  <a:pt x="125" y="741"/>
                </a:cubicBezTo>
                <a:cubicBezTo>
                  <a:pt x="122" y="748"/>
                  <a:pt x="112" y="757"/>
                  <a:pt x="118" y="763"/>
                </a:cubicBezTo>
                <a:cubicBezTo>
                  <a:pt x="123" y="768"/>
                  <a:pt x="133" y="759"/>
                  <a:pt x="140" y="756"/>
                </a:cubicBezTo>
                <a:cubicBezTo>
                  <a:pt x="179" y="734"/>
                  <a:pt x="211" y="693"/>
                  <a:pt x="253" y="681"/>
                </a:cubicBezTo>
                <a:cubicBezTo>
                  <a:pt x="333" y="625"/>
                  <a:pt x="412" y="558"/>
                  <a:pt x="447" y="464"/>
                </a:cubicBezTo>
                <a:cubicBezTo>
                  <a:pt x="452" y="568"/>
                  <a:pt x="455" y="665"/>
                  <a:pt x="514" y="756"/>
                </a:cubicBezTo>
                <a:cubicBezTo>
                  <a:pt x="533" y="828"/>
                  <a:pt x="550" y="845"/>
                  <a:pt x="611" y="868"/>
                </a:cubicBezTo>
                <a:cubicBezTo>
                  <a:pt x="642" y="820"/>
                  <a:pt x="615" y="780"/>
                  <a:pt x="596" y="733"/>
                </a:cubicBezTo>
                <a:cubicBezTo>
                  <a:pt x="568" y="665"/>
                  <a:pt x="520" y="615"/>
                  <a:pt x="484" y="554"/>
                </a:cubicBezTo>
                <a:cubicBezTo>
                  <a:pt x="475" y="539"/>
                  <a:pt x="471" y="522"/>
                  <a:pt x="462" y="509"/>
                </a:cubicBezTo>
                <a:cubicBezTo>
                  <a:pt x="438" y="473"/>
                  <a:pt x="410" y="452"/>
                  <a:pt x="410" y="40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60199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419720"/>
            <a:ext cx="1371600" cy="16002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581280" y="1980720"/>
            <a:ext cx="3581640" cy="40388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6019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2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008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580920" y="64008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6248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6248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9436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5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876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8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54100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85800" y="44193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43434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#7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  Bobo wanted to know the distance across this lake but he had no way to measure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6160" y="2065320"/>
            <a:ext cx="3602160" cy="4130640"/>
          </a:xfrm>
          <a:custGeom>
            <a:avLst/>
            <a:gdLst/>
            <a:ahLst/>
            <a:rect l="l" t="t" r="r" b="b"/>
            <a:pathLst>
              <a:path w="2269" h="2602">
                <a:moveTo>
                  <a:pt x="564" y="150"/>
                </a:moveTo>
                <a:cubicBezTo>
                  <a:pt x="489" y="122"/>
                  <a:pt x="402" y="147"/>
                  <a:pt x="325" y="157"/>
                </a:cubicBezTo>
                <a:cubicBezTo>
                  <a:pt x="295" y="166"/>
                  <a:pt x="265" y="177"/>
                  <a:pt x="235" y="187"/>
                </a:cubicBezTo>
                <a:cubicBezTo>
                  <a:pt x="189" y="217"/>
                  <a:pt x="174" y="255"/>
                  <a:pt x="145" y="299"/>
                </a:cubicBezTo>
                <a:cubicBezTo>
                  <a:pt x="133" y="350"/>
                  <a:pt x="117" y="397"/>
                  <a:pt x="108" y="449"/>
                </a:cubicBezTo>
                <a:cubicBezTo>
                  <a:pt x="95" y="608"/>
                  <a:pt x="81" y="778"/>
                  <a:pt x="48" y="935"/>
                </a:cubicBezTo>
                <a:cubicBezTo>
                  <a:pt x="40" y="1007"/>
                  <a:pt x="28" y="1079"/>
                  <a:pt x="18" y="1152"/>
                </a:cubicBezTo>
                <a:cubicBezTo>
                  <a:pt x="4" y="1339"/>
                  <a:pt x="0" y="1526"/>
                  <a:pt x="41" y="1712"/>
                </a:cubicBezTo>
                <a:cubicBezTo>
                  <a:pt x="46" y="1771"/>
                  <a:pt x="54" y="1826"/>
                  <a:pt x="71" y="1884"/>
                </a:cubicBezTo>
                <a:cubicBezTo>
                  <a:pt x="80" y="1916"/>
                  <a:pt x="94" y="1948"/>
                  <a:pt x="101" y="1982"/>
                </a:cubicBezTo>
                <a:cubicBezTo>
                  <a:pt x="107" y="2019"/>
                  <a:pt x="112" y="2050"/>
                  <a:pt x="123" y="2086"/>
                </a:cubicBezTo>
                <a:cubicBezTo>
                  <a:pt x="135" y="2127"/>
                  <a:pt x="156" y="2167"/>
                  <a:pt x="175" y="2206"/>
                </a:cubicBezTo>
                <a:cubicBezTo>
                  <a:pt x="186" y="2229"/>
                  <a:pt x="235" y="2258"/>
                  <a:pt x="235" y="2258"/>
                </a:cubicBezTo>
                <a:cubicBezTo>
                  <a:pt x="252" y="2284"/>
                  <a:pt x="269" y="2300"/>
                  <a:pt x="295" y="2318"/>
                </a:cubicBezTo>
                <a:cubicBezTo>
                  <a:pt x="316" y="2349"/>
                  <a:pt x="350" y="2358"/>
                  <a:pt x="377" y="2385"/>
                </a:cubicBezTo>
                <a:cubicBezTo>
                  <a:pt x="427" y="2435"/>
                  <a:pt x="478" y="2463"/>
                  <a:pt x="542" y="2490"/>
                </a:cubicBezTo>
                <a:cubicBezTo>
                  <a:pt x="552" y="2494"/>
                  <a:pt x="562" y="2499"/>
                  <a:pt x="572" y="2505"/>
                </a:cubicBezTo>
                <a:cubicBezTo>
                  <a:pt x="579" y="2509"/>
                  <a:pt x="585" y="2516"/>
                  <a:pt x="594" y="2520"/>
                </a:cubicBezTo>
                <a:cubicBezTo>
                  <a:pt x="638" y="2538"/>
                  <a:pt x="690" y="2541"/>
                  <a:pt x="736" y="2557"/>
                </a:cubicBezTo>
                <a:cubicBezTo>
                  <a:pt x="801" y="2578"/>
                  <a:pt x="861" y="2594"/>
                  <a:pt x="931" y="2602"/>
                </a:cubicBezTo>
                <a:cubicBezTo>
                  <a:pt x="1029" y="2596"/>
                  <a:pt x="1100" y="2586"/>
                  <a:pt x="1192" y="2565"/>
                </a:cubicBezTo>
                <a:cubicBezTo>
                  <a:pt x="1202" y="2560"/>
                  <a:pt x="1211" y="2553"/>
                  <a:pt x="1222" y="2550"/>
                </a:cubicBezTo>
                <a:cubicBezTo>
                  <a:pt x="1234" y="2545"/>
                  <a:pt x="1247" y="2546"/>
                  <a:pt x="1260" y="2542"/>
                </a:cubicBezTo>
                <a:cubicBezTo>
                  <a:pt x="1268" y="2538"/>
                  <a:pt x="1273" y="2530"/>
                  <a:pt x="1282" y="2527"/>
                </a:cubicBezTo>
                <a:cubicBezTo>
                  <a:pt x="1338" y="2501"/>
                  <a:pt x="1409" y="2486"/>
                  <a:pt x="1469" y="2468"/>
                </a:cubicBezTo>
                <a:cubicBezTo>
                  <a:pt x="1531" y="2425"/>
                  <a:pt x="1433" y="2489"/>
                  <a:pt x="1536" y="2438"/>
                </a:cubicBezTo>
                <a:cubicBezTo>
                  <a:pt x="1586" y="2412"/>
                  <a:pt x="1637" y="2385"/>
                  <a:pt x="1686" y="2355"/>
                </a:cubicBezTo>
                <a:cubicBezTo>
                  <a:pt x="1748" y="2315"/>
                  <a:pt x="1781" y="2252"/>
                  <a:pt x="1843" y="2213"/>
                </a:cubicBezTo>
                <a:cubicBezTo>
                  <a:pt x="1853" y="2196"/>
                  <a:pt x="1869" y="2184"/>
                  <a:pt x="1880" y="2168"/>
                </a:cubicBezTo>
                <a:cubicBezTo>
                  <a:pt x="1904" y="2130"/>
                  <a:pt x="1914" y="2090"/>
                  <a:pt x="1947" y="2056"/>
                </a:cubicBezTo>
                <a:cubicBezTo>
                  <a:pt x="1959" y="2007"/>
                  <a:pt x="1987" y="1949"/>
                  <a:pt x="2022" y="1914"/>
                </a:cubicBezTo>
                <a:cubicBezTo>
                  <a:pt x="2051" y="1834"/>
                  <a:pt x="2036" y="1749"/>
                  <a:pt x="2052" y="1667"/>
                </a:cubicBezTo>
                <a:cubicBezTo>
                  <a:pt x="2066" y="1587"/>
                  <a:pt x="2136" y="1448"/>
                  <a:pt x="2194" y="1391"/>
                </a:cubicBezTo>
                <a:cubicBezTo>
                  <a:pt x="2213" y="1333"/>
                  <a:pt x="2233" y="1276"/>
                  <a:pt x="2254" y="1219"/>
                </a:cubicBezTo>
                <a:cubicBezTo>
                  <a:pt x="2258" y="1178"/>
                  <a:pt x="2269" y="1139"/>
                  <a:pt x="2269" y="1099"/>
                </a:cubicBezTo>
                <a:cubicBezTo>
                  <a:pt x="2269" y="962"/>
                  <a:pt x="2238" y="823"/>
                  <a:pt x="2224" y="688"/>
                </a:cubicBezTo>
                <a:cubicBezTo>
                  <a:pt x="2236" y="550"/>
                  <a:pt x="2252" y="417"/>
                  <a:pt x="2209" y="284"/>
                </a:cubicBezTo>
                <a:cubicBezTo>
                  <a:pt x="2197" y="249"/>
                  <a:pt x="2187" y="214"/>
                  <a:pt x="2157" y="194"/>
                </a:cubicBezTo>
                <a:cubicBezTo>
                  <a:pt x="2104" y="117"/>
                  <a:pt x="2029" y="105"/>
                  <a:pt x="1947" y="82"/>
                </a:cubicBezTo>
                <a:cubicBezTo>
                  <a:pt x="1759" y="27"/>
                  <a:pt x="1557" y="29"/>
                  <a:pt x="1364" y="0"/>
                </a:cubicBezTo>
                <a:cubicBezTo>
                  <a:pt x="1229" y="4"/>
                  <a:pt x="1106" y="11"/>
                  <a:pt x="975" y="30"/>
                </a:cubicBezTo>
                <a:cubicBezTo>
                  <a:pt x="922" y="37"/>
                  <a:pt x="818" y="52"/>
                  <a:pt x="818" y="52"/>
                </a:cubicBezTo>
                <a:cubicBezTo>
                  <a:pt x="741" y="79"/>
                  <a:pt x="664" y="102"/>
                  <a:pt x="587" y="127"/>
                </a:cubicBezTo>
                <a:cubicBezTo>
                  <a:pt x="561" y="143"/>
                  <a:pt x="564" y="132"/>
                  <a:pt x="564" y="150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mo suggested measuring AC, CE, and 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16160" y="2065320"/>
            <a:ext cx="3602160" cy="4130640"/>
          </a:xfrm>
          <a:custGeom>
            <a:avLst/>
            <a:gdLst/>
            <a:ahLst/>
            <a:rect l="l" t="t" r="r" b="b"/>
            <a:pathLst>
              <a:path w="2269" h="2602">
                <a:moveTo>
                  <a:pt x="564" y="150"/>
                </a:moveTo>
                <a:cubicBezTo>
                  <a:pt x="489" y="122"/>
                  <a:pt x="402" y="147"/>
                  <a:pt x="325" y="157"/>
                </a:cubicBezTo>
                <a:cubicBezTo>
                  <a:pt x="295" y="166"/>
                  <a:pt x="265" y="177"/>
                  <a:pt x="235" y="187"/>
                </a:cubicBezTo>
                <a:cubicBezTo>
                  <a:pt x="189" y="217"/>
                  <a:pt x="174" y="255"/>
                  <a:pt x="145" y="299"/>
                </a:cubicBezTo>
                <a:cubicBezTo>
                  <a:pt x="133" y="350"/>
                  <a:pt x="117" y="397"/>
                  <a:pt x="108" y="449"/>
                </a:cubicBezTo>
                <a:cubicBezTo>
                  <a:pt x="95" y="608"/>
                  <a:pt x="81" y="778"/>
                  <a:pt x="48" y="935"/>
                </a:cubicBezTo>
                <a:cubicBezTo>
                  <a:pt x="40" y="1007"/>
                  <a:pt x="28" y="1079"/>
                  <a:pt x="18" y="1152"/>
                </a:cubicBezTo>
                <a:cubicBezTo>
                  <a:pt x="4" y="1339"/>
                  <a:pt x="0" y="1526"/>
                  <a:pt x="41" y="1712"/>
                </a:cubicBezTo>
                <a:cubicBezTo>
                  <a:pt x="46" y="1771"/>
                  <a:pt x="54" y="1826"/>
                  <a:pt x="71" y="1884"/>
                </a:cubicBezTo>
                <a:cubicBezTo>
                  <a:pt x="80" y="1916"/>
                  <a:pt x="94" y="1948"/>
                  <a:pt x="101" y="1982"/>
                </a:cubicBezTo>
                <a:cubicBezTo>
                  <a:pt x="107" y="2019"/>
                  <a:pt x="112" y="2050"/>
                  <a:pt x="123" y="2086"/>
                </a:cubicBezTo>
                <a:cubicBezTo>
                  <a:pt x="135" y="2127"/>
                  <a:pt x="156" y="2167"/>
                  <a:pt x="175" y="2206"/>
                </a:cubicBezTo>
                <a:cubicBezTo>
                  <a:pt x="186" y="2229"/>
                  <a:pt x="235" y="2258"/>
                  <a:pt x="235" y="2258"/>
                </a:cubicBezTo>
                <a:cubicBezTo>
                  <a:pt x="252" y="2284"/>
                  <a:pt x="269" y="2300"/>
                  <a:pt x="295" y="2318"/>
                </a:cubicBezTo>
                <a:cubicBezTo>
                  <a:pt x="316" y="2349"/>
                  <a:pt x="350" y="2358"/>
                  <a:pt x="377" y="2385"/>
                </a:cubicBezTo>
                <a:cubicBezTo>
                  <a:pt x="427" y="2435"/>
                  <a:pt x="478" y="2463"/>
                  <a:pt x="542" y="2490"/>
                </a:cubicBezTo>
                <a:cubicBezTo>
                  <a:pt x="552" y="2494"/>
                  <a:pt x="562" y="2499"/>
                  <a:pt x="572" y="2505"/>
                </a:cubicBezTo>
                <a:cubicBezTo>
                  <a:pt x="579" y="2509"/>
                  <a:pt x="585" y="2516"/>
                  <a:pt x="594" y="2520"/>
                </a:cubicBezTo>
                <a:cubicBezTo>
                  <a:pt x="638" y="2538"/>
                  <a:pt x="690" y="2541"/>
                  <a:pt x="736" y="2557"/>
                </a:cubicBezTo>
                <a:cubicBezTo>
                  <a:pt x="801" y="2578"/>
                  <a:pt x="861" y="2594"/>
                  <a:pt x="931" y="2602"/>
                </a:cubicBezTo>
                <a:cubicBezTo>
                  <a:pt x="1029" y="2596"/>
                  <a:pt x="1100" y="2586"/>
                  <a:pt x="1192" y="2565"/>
                </a:cubicBezTo>
                <a:cubicBezTo>
                  <a:pt x="1202" y="2560"/>
                  <a:pt x="1211" y="2553"/>
                  <a:pt x="1222" y="2550"/>
                </a:cubicBezTo>
                <a:cubicBezTo>
                  <a:pt x="1234" y="2545"/>
                  <a:pt x="1247" y="2546"/>
                  <a:pt x="1260" y="2542"/>
                </a:cubicBezTo>
                <a:cubicBezTo>
                  <a:pt x="1268" y="2538"/>
                  <a:pt x="1273" y="2530"/>
                  <a:pt x="1282" y="2527"/>
                </a:cubicBezTo>
                <a:cubicBezTo>
                  <a:pt x="1338" y="2501"/>
                  <a:pt x="1409" y="2486"/>
                  <a:pt x="1469" y="2468"/>
                </a:cubicBezTo>
                <a:cubicBezTo>
                  <a:pt x="1531" y="2425"/>
                  <a:pt x="1433" y="2489"/>
                  <a:pt x="1536" y="2438"/>
                </a:cubicBezTo>
                <a:cubicBezTo>
                  <a:pt x="1586" y="2412"/>
                  <a:pt x="1637" y="2385"/>
                  <a:pt x="1686" y="2355"/>
                </a:cubicBezTo>
                <a:cubicBezTo>
                  <a:pt x="1748" y="2315"/>
                  <a:pt x="1781" y="2252"/>
                  <a:pt x="1843" y="2213"/>
                </a:cubicBezTo>
                <a:cubicBezTo>
                  <a:pt x="1853" y="2196"/>
                  <a:pt x="1869" y="2184"/>
                  <a:pt x="1880" y="2168"/>
                </a:cubicBezTo>
                <a:cubicBezTo>
                  <a:pt x="1904" y="2130"/>
                  <a:pt x="1914" y="2090"/>
                  <a:pt x="1947" y="2056"/>
                </a:cubicBezTo>
                <a:cubicBezTo>
                  <a:pt x="1959" y="2007"/>
                  <a:pt x="1987" y="1949"/>
                  <a:pt x="2022" y="1914"/>
                </a:cubicBezTo>
                <a:cubicBezTo>
                  <a:pt x="2051" y="1834"/>
                  <a:pt x="2036" y="1749"/>
                  <a:pt x="2052" y="1667"/>
                </a:cubicBezTo>
                <a:cubicBezTo>
                  <a:pt x="2066" y="1587"/>
                  <a:pt x="2136" y="1448"/>
                  <a:pt x="2194" y="1391"/>
                </a:cubicBezTo>
                <a:cubicBezTo>
                  <a:pt x="2213" y="1333"/>
                  <a:pt x="2233" y="1276"/>
                  <a:pt x="2254" y="1219"/>
                </a:cubicBezTo>
                <a:cubicBezTo>
                  <a:pt x="2258" y="1178"/>
                  <a:pt x="2269" y="1139"/>
                  <a:pt x="2269" y="1099"/>
                </a:cubicBezTo>
                <a:cubicBezTo>
                  <a:pt x="2269" y="962"/>
                  <a:pt x="2238" y="823"/>
                  <a:pt x="2224" y="688"/>
                </a:cubicBezTo>
                <a:cubicBezTo>
                  <a:pt x="2236" y="550"/>
                  <a:pt x="2252" y="417"/>
                  <a:pt x="2209" y="284"/>
                </a:cubicBezTo>
                <a:cubicBezTo>
                  <a:pt x="2197" y="249"/>
                  <a:pt x="2187" y="214"/>
                  <a:pt x="2157" y="194"/>
                </a:cubicBezTo>
                <a:cubicBezTo>
                  <a:pt x="2104" y="117"/>
                  <a:pt x="2029" y="105"/>
                  <a:pt x="1947" y="82"/>
                </a:cubicBezTo>
                <a:cubicBezTo>
                  <a:pt x="1759" y="27"/>
                  <a:pt x="1557" y="29"/>
                  <a:pt x="1364" y="0"/>
                </a:cubicBezTo>
                <a:cubicBezTo>
                  <a:pt x="1229" y="4"/>
                  <a:pt x="1106" y="11"/>
                  <a:pt x="975" y="30"/>
                </a:cubicBezTo>
                <a:cubicBezTo>
                  <a:pt x="922" y="37"/>
                  <a:pt x="818" y="52"/>
                  <a:pt x="818" y="52"/>
                </a:cubicBezTo>
                <a:cubicBezTo>
                  <a:pt x="741" y="79"/>
                  <a:pt x="664" y="102"/>
                  <a:pt x="587" y="127"/>
                </a:cubicBezTo>
                <a:cubicBezTo>
                  <a:pt x="561" y="143"/>
                  <a:pt x="564" y="132"/>
                  <a:pt x="564" y="150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3886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3124080"/>
            <a:ext cx="0" cy="198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5105520"/>
            <a:ext cx="17524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371600" y="3124080"/>
            <a:ext cx="5410080" cy="198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124080"/>
            <a:ext cx="36576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30492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30492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30492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5:33Z</dcterms:modified>
  <cp:revision>59</cp:revision>
  <dc:subject/>
  <dc:title>No Slide Title</dc:title>
</cp:coreProperties>
</file>