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D85-34D0-42C2-A2A7-BB261B8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B31-BE58-4222-B8A0-C8271F5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57E-B794-4566-B88B-480F98EB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8C-3296-4026-A77E-B837AB87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73F-083D-4465-B9B7-794E64C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EB2-437B-4FBD-8FD4-A237C8A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BE0-4AC4-4939-B64F-269D853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99B-1201-487F-B1E9-EFEA97F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427-A4AB-4BDD-B4CE-7D502C7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B38-E2EA-4751-A280-0101B35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090-E042-4904-BA24-F8BDBC2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480-0322-4EAC-BAC2-D7B944D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5DD3-B16F-4162-B8D2-529CDC87E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066680"/>
            <a:ext cx="70102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389"/>
                <a:gd name="adj2" fmla="val -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ti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yard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yard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 to 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inch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inch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4 to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which is also known a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inch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8 to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mil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mil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 to 15,84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which is also known a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mile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1 to 792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76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AS YOU CAN SEE,</a:t>
            </a: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 RATIOS CAN BE REDUCED JUST LIKE FRACTIO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ffff"/>
                </a:solidFill>
                <a:latin typeface="Arial"/>
              </a:rPr>
              <a:t>2 : 4 = 1 : 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7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RATIOS CAN BE REDUCED JUST LIKE FRACTIO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ffff"/>
                </a:solidFill>
                <a:latin typeface="Arial"/>
              </a:rPr>
              <a:t>12 : 15 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0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10600" spc="-1" strike="noStrike">
                <a:solidFill>
                  <a:srgbClr val="ff66cc"/>
                </a:solidFill>
                <a:latin typeface="Arial"/>
              </a:rPr>
              <a:t>RATIO</a:t>
            </a:r>
            <a:r>
              <a:rPr b="1" i="1" lang="en-US" sz="106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Arial"/>
              </a:rPr>
              <a:t>a comparison of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Arial"/>
              </a:rPr>
              <a:t>two quantit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7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RATIOS CAN BE REDUCED JUST LIKE FRACTIO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ffffff"/>
                </a:solidFill>
                <a:latin typeface="Arial"/>
              </a:rPr>
              <a:t>12 : 15 = </a:t>
            </a:r>
            <a:r>
              <a:rPr b="1" i="1" lang="en-US" sz="10600" spc="-1" strike="noStrike">
                <a:solidFill>
                  <a:srgbClr val="ff66cc"/>
                </a:solidFill>
                <a:latin typeface="Arial"/>
              </a:rPr>
              <a:t>4 : 5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4 gallons to 3 quart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4 gallons to 3 quart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16 to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36 ounces to 3 pound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36 ounces to 3 pound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66cc"/>
                </a:solidFill>
                <a:latin typeface="Arial"/>
              </a:rPr>
              <a:t>36 : 48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36 ounces to 3 pounds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66cc"/>
                </a:solidFill>
                <a:latin typeface="Arial"/>
              </a:rPr>
              <a:t>36 : 48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3 :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51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e ratio of 90 minutes to 1 day would b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e ratio of 90 minutes to 1 day would b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cc"/>
                </a:solidFill>
                <a:latin typeface="Arial"/>
              </a:rPr>
              <a:t>90 : 1440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68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cc"/>
                </a:solidFill>
                <a:latin typeface="Arial"/>
              </a:rPr>
              <a:t>Here is a ratio problem from the last algebra tes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e ratio of 90 minutes to 1 day would b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cc"/>
                </a:solidFill>
                <a:latin typeface="Arial"/>
              </a:rPr>
              <a:t>90 : 1440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1 : 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8280" indent="-15382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Exampl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538280" indent="-15382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38280" indent="-1538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1)  You can compare the prices of two item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8280" indent="-15382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Exampl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538280" indent="-15382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38280" indent="-1538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2)  You can compare the sizes of two anima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440" indent="-114444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Exampl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3) You can compare the number of boys to the number of girls in this class.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440" indent="-114444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RATIO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can be written in three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)  as a fra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7480" y="32400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cc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7480" y="44956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495680"/>
            <a:ext cx="1066680" cy="1526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440" indent="-114444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RATIO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can be written in three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2)  with a col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 :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440" indent="-114444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cc"/>
                </a:solidFill>
                <a:latin typeface="Arial"/>
              </a:rPr>
              <a:t>RATIO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can be written in three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3)  with the word "to"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144440" indent="-114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 to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cc"/>
                </a:solidFill>
                <a:latin typeface="Arial"/>
              </a:rPr>
              <a:t>THE TWO PARTS OF A RATIO MUST USE THE SAM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The ratio of 2 feet to 3 feet would b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9600" spc="-1" strike="noStrike">
                <a:solidFill>
                  <a:srgbClr val="ff66cc"/>
                </a:solidFill>
                <a:latin typeface="Arial"/>
              </a:rPr>
              <a:t>2 to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4:00Z</dcterms:modified>
  <cp:revision>11</cp:revision>
  <dc:subject/>
  <dc:title>No Slide Title</dc:title>
</cp:coreProperties>
</file>