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8B7-18BE-41B1-A5A5-440244EE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00E-47B6-45C9-B184-AD6A7D3D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C39-9E74-4451-B29D-7DAE63CC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39B-528B-4D51-8A6F-6AFD43B5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253-4CF0-49BD-B6D7-F697DEFE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D7C-5A42-4A97-A0BB-88AFCD3C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EC4-3DFD-4465-BECB-82212480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EA3-82E7-4FF1-A5A1-DB9EA8D0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221-D5D0-467E-AA5F-D2FF27B7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2B1-661F-45AB-B027-251FD758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4BF-D2A5-4FA1-8BBC-068746AC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478-85AA-45F4-8BDE-0F89BA9E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FF67-25B3-4C6E-981A-EF9C236E2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1295280"/>
            <a:ext cx="647712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cc00ff"/>
                    </a:gs>
                  </a:gsLst>
                  <a:lin ang="5400000"/>
                </a:gradFill>
                <a:latin typeface="Impact"/>
              </a:rPr>
              <a:t>What a graph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cc00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cc00ff"/>
                    </a:gs>
                  </a:gsLst>
                  <a:lin ang="5400000"/>
                </a:gradFill>
                <a:latin typeface="Impact"/>
              </a:rPr>
              <a:t>represents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cc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685800" y="762120"/>
            <a:ext cx="8229600" cy="5410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029200" y="99072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2/3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2971800" y="533160"/>
            <a:ext cx="3809880" cy="5638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V="1">
            <a:off x="2971800" y="533160"/>
            <a:ext cx="3809880" cy="5638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715000" y="213372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3/2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 flipV="1">
            <a:off x="228600" y="1904760"/>
            <a:ext cx="8381880" cy="3429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 flipV="1">
            <a:off x="228600" y="1904760"/>
            <a:ext cx="8381880" cy="3429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952880" y="1600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2/5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1600200" y="380880"/>
            <a:ext cx="5943600" cy="5867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1600200" y="380880"/>
            <a:ext cx="5943600" cy="5867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2590920" y="60948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–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228600" y="1219320"/>
            <a:ext cx="8534520" cy="4267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228600" y="1219320"/>
            <a:ext cx="8534520" cy="4267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523880" y="114300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– 1/2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3733920" y="380880"/>
            <a:ext cx="1981080" cy="5867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3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ff00"/>
                </a:solidFill>
                <a:latin typeface="Bertram LET"/>
              </a:rPr>
              <a:t>A graph represents all the values of the variables that make the equation true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149"/>
              </a:spcBef>
              <a:buClr>
                <a:srgbClr val="00ff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3733920" y="380880"/>
            <a:ext cx="1981080" cy="5867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4952880" y="228600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– 3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 flipV="1">
            <a:off x="1600200" y="380520"/>
            <a:ext cx="5867280" cy="5867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 flipV="1">
            <a:off x="1600200" y="380520"/>
            <a:ext cx="5867280" cy="5867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>
            <a:off x="5867280" y="19810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x +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2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6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3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 flipV="1">
            <a:off x="1143000" y="380520"/>
            <a:ext cx="5867280" cy="5867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5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6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1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0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3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4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5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6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7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8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9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0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1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2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7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9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7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8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1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2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3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4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5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6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7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8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5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0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"/>
          <p:cNvSpPr/>
          <p:nvPr/>
        </p:nvSpPr>
        <p:spPr>
          <a:xfrm flipV="1">
            <a:off x="1143000" y="380520"/>
            <a:ext cx="5867280" cy="5867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5867280" y="19810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x +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8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9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2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3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4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5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7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0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2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0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4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8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9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1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4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5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6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7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8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9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0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8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2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3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4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5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8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9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1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2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3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4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5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6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9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6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4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5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9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4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5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2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4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4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8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5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6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7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8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9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0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1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2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3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"/>
          <p:cNvSpPr/>
          <p:nvPr/>
        </p:nvSpPr>
        <p:spPr>
          <a:xfrm flipH="1" flipV="1">
            <a:off x="2971800" y="304920"/>
            <a:ext cx="5943600" cy="59436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5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6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7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9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1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2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3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4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6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7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8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9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0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1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2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3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4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5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8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1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2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3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7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8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9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0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2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9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0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1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5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7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8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0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1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2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6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 flipH="1" flipV="1">
            <a:off x="2971800" y="304920"/>
            <a:ext cx="5943600" cy="59436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>
            <a:off x="5410080" y="17524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–x +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6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1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1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2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3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4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7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8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9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0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1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2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5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7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2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3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4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8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9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0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1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2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2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0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5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0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4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1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8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1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2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3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4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5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6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7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8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9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0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1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5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9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2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4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3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6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7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8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2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6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8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9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8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5" name=""/>
          <p:cNvSpPr/>
          <p:nvPr/>
        </p:nvSpPr>
        <p:spPr>
          <a:xfrm flipH="1" flipV="1">
            <a:off x="685800" y="304920"/>
            <a:ext cx="5943600" cy="59436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7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7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1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4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3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7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9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0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4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2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3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6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8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0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3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1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3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0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2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3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4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5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6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8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"/>
          <p:cNvSpPr/>
          <p:nvPr/>
        </p:nvSpPr>
        <p:spPr>
          <a:xfrm flipH="1" flipV="1">
            <a:off x="685800" y="304920"/>
            <a:ext cx="5943600" cy="59436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"/>
          <p:cNvSpPr/>
          <p:nvPr/>
        </p:nvSpPr>
        <p:spPr>
          <a:xfrm>
            <a:off x="1676520" y="5335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–x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7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3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8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9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1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2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6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7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8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9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0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8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0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6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9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8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2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5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6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7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8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9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0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1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6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7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2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7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0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1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4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6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7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8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9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0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1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2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3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4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5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6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7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8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1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5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8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9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0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1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2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5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6" name=""/>
          <p:cNvSpPr/>
          <p:nvPr/>
        </p:nvSpPr>
        <p:spPr>
          <a:xfrm flipV="1">
            <a:off x="3276720" y="304920"/>
            <a:ext cx="2895480" cy="57909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23880" y="1295280"/>
            <a:ext cx="647712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Two-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Graph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7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9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4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8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9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0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2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5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6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7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1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5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5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7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0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1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2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3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4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5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6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7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8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9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6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7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7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4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6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7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3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4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5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6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7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8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9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0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6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7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1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6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7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9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0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1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2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3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4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5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6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7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8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9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2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"/>
          <p:cNvSpPr/>
          <p:nvPr/>
        </p:nvSpPr>
        <p:spPr>
          <a:xfrm flipV="1">
            <a:off x="3276720" y="304920"/>
            <a:ext cx="2895480" cy="57909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>
            <a:off x="5562720" y="19051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2x +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8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2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5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6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2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3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5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6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7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8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9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2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4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2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5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6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7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8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8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0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1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2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3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5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6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7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8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9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0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1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2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3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4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5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6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7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8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9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0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5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6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7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3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3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4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5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6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7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8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9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0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1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2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3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0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1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3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4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5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6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7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8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9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0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1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2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3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7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8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9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0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1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2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3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4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5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6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7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8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9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8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9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0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1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2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3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4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5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6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7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8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9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0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1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2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3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4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5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6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7" name=""/>
          <p:cNvSpPr/>
          <p:nvPr/>
        </p:nvSpPr>
        <p:spPr>
          <a:xfrm flipV="1">
            <a:off x="228600" y="1981080"/>
            <a:ext cx="8534520" cy="42674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8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9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0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1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2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3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4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5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6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7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8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9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0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1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2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3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4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5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6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7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8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9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0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1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2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3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4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5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6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7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8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9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0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1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2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3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4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5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6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7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8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9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0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1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2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3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5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6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7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8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9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0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1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2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3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4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5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6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7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8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9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1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2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3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4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7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8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9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0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1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2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4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5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6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7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8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9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2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3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4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5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6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7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8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9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0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1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3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4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5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6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7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5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6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9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0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1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2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3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4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5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6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7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8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9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0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1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2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3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4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5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6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7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8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9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0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1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2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3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4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5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6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7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8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9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0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1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2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3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4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5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6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0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1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2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3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4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8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0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4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5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6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7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8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9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0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1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2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3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4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5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6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7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8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9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1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2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3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4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8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9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0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3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4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5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6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7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8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0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1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2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4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5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6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7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8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9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0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1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2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3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4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5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6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7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8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9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0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1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3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4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6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 flipV="1">
            <a:off x="228600" y="1981080"/>
            <a:ext cx="8534520" cy="42674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>
            <a:off x="4876920" y="1600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1/2x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9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0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2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5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6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7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8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9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0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1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2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3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4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5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6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7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8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9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0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1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2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3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4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5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6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7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8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9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0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1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2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3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4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5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6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7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8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9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0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1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2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3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4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5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6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7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8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9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0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1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2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3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4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5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6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7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8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9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0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1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2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3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4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5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6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7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8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2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3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4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5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6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7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8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9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0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1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2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3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4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5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6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7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8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9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6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7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8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9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0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1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2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3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4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5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6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7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8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9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0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4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5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6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0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1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2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3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4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5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6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7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8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9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0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1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2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3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4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5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6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7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8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9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0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1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2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3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4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5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6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7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8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9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0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1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2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3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4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5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6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7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8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9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0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1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2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3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4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5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6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7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8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9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0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1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2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3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4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5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6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7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8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9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0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1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2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3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4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5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6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7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8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9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0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1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2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3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4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5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6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7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8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9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0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1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2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3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4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5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6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0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1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2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3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4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5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6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8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2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3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4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5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6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7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8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9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0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1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2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3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4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5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6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7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8" name=""/>
          <p:cNvSpPr/>
          <p:nvPr/>
        </p:nvSpPr>
        <p:spPr>
          <a:xfrm flipV="1">
            <a:off x="380880" y="761760"/>
            <a:ext cx="8534520" cy="28191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9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0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1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2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3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4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5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6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7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8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9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0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1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2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3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4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5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6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7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8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9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0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1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2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3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4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5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6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7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8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9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0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1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2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3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4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5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6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7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8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9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0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1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2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3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4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5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6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7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8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9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0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1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3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4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5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6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7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8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9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0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1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2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3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4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5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6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7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8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9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0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1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2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3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4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5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6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7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8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9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0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1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5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6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7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8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9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0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1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2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3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4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5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6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7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8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9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0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1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2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3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4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5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6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7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8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9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0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1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2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3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4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5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6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7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8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9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0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1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2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6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7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8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9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0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1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3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4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7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8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9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0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1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2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3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4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5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6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7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8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9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0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1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2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3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4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5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6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7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8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9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0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1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2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3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4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5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6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7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8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9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0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1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2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3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4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5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6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7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8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9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0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1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2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3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6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7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8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0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1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2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3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4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5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6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7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8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9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0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1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2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3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4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5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6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7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8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9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0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1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2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3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4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5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6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8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9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0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1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2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3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4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5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6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7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8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9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0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1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2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3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4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5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6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7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8" name=""/>
          <p:cNvSpPr/>
          <p:nvPr/>
        </p:nvSpPr>
        <p:spPr>
          <a:xfrm flipV="1">
            <a:off x="380880" y="761760"/>
            <a:ext cx="8534520" cy="28191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9" name=""/>
          <p:cNvSpPr/>
          <p:nvPr/>
        </p:nvSpPr>
        <p:spPr>
          <a:xfrm>
            <a:off x="5029200" y="19051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1/3x +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0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1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2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4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5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6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7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8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9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0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1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2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3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4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5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7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8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9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0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1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2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3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4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5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6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7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8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9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0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1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2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3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4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5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6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7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8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9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0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1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2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3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4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5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6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7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8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6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8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9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0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1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2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3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4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5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6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7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8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9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0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1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2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3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4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5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6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7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9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0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1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2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5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6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7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8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9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0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1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2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3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4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5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6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7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8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9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3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4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5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6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7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8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9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0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1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2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3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4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5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6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7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8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9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0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1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2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3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4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5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6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7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8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9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0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1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2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3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4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5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6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7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8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9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0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1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2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3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4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5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6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7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8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9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0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1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2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3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4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5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6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7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8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9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0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1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2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3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4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5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6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7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8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9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0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1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2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3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4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5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6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7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8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9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0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1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2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3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4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5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6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7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8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9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0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1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2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3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4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5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6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7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8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9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0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1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2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3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4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5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6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7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8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9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0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1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2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3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4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5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6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7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8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9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0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1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2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3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4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5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6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7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8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9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0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1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2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3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4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5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6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>
            <a:off x="2362320" y="457200"/>
            <a:ext cx="2895480" cy="57913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0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6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8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9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0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1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2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3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4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5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6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7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8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9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0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1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2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3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4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5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6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7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8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9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0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1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2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3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4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5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6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7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8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9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0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1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2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3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4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5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6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7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8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9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0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1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2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3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4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5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6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7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8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9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0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1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2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3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4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5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6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9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0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1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2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5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6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8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9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0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1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2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3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5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6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6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7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9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2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3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4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5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6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7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8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9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0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1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8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9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0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1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2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3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4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5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6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7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8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9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0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1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2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3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4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5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6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0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7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8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9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0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1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5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6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7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8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9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0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1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2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3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4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5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6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8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9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0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1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2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3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4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5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6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7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8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9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0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1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2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3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4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5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6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7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8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9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0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1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2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3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4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5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6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7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8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9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0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1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2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3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4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5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6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7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8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9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0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1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2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3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4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1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2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3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4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5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4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5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6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7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8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9" name=""/>
          <p:cNvSpPr/>
          <p:nvPr/>
        </p:nvSpPr>
        <p:spPr>
          <a:xfrm>
            <a:off x="2362320" y="457200"/>
            <a:ext cx="2895480" cy="57913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0" name=""/>
          <p:cNvSpPr/>
          <p:nvPr/>
        </p:nvSpPr>
        <p:spPr>
          <a:xfrm>
            <a:off x="4876920" y="40384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–2x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1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2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3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4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9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0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1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2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3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4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5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6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7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8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9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0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1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2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3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4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5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6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7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8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9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0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1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2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3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4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5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6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7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8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9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0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1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2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3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4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5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6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7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8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9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0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1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2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3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4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5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6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7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8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9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0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1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2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3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4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5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6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7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8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9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0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1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2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3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4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5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6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7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8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9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0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1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2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3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4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5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6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7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8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9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0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1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2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3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4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5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6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7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8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9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2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3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4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5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6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7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8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9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0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1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2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3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4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5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6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7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8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9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0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1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2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3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4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5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6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7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8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9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0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1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2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3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4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5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6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7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8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9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0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1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2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3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4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5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6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7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8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9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0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1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2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3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4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5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6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7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8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9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0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1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2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3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4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5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6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7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8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9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0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1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2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3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4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5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6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7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8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9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0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1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2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3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4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5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6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7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8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9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0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1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2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3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4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5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6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7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8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9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0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1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2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3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4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5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6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7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8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9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0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1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2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3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4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5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7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8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9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0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1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2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3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4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5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6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7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8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9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1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5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6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1752480" y="533520"/>
            <a:ext cx="7086600" cy="4724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1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2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3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5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6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7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8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9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0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1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2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3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5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8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9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0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1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2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3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4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5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6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7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8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9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0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1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2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3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4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5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6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7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8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9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0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1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2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3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4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5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6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7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8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9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0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1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2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3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4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5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6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7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8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9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0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1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2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3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4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5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6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7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8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9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0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1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2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3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4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5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6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7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8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9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0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1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2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3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4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5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6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7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8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9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0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1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2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3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5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6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7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8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9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0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1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2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3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4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5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6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7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8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9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0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1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2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3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4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5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6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7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8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9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0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1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2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3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4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5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6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7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8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9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0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1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2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3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4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5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6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7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8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9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0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1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2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3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4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5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6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7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8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9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0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1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2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3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4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5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6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7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8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9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0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1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2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3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4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5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6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7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8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9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0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1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2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3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4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5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6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7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8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9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0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1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2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3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4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5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6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7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8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9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0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1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2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3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4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5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6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7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8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9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0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1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2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3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4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5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6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7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8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9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0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1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2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3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4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5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7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8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9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0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1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2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3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4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5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6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7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8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9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0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1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2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3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4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5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6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7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8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9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0" name=""/>
          <p:cNvSpPr/>
          <p:nvPr/>
        </p:nvSpPr>
        <p:spPr>
          <a:xfrm>
            <a:off x="1752480" y="533520"/>
            <a:ext cx="7086600" cy="4724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1" name=""/>
          <p:cNvSpPr/>
          <p:nvPr/>
        </p:nvSpPr>
        <p:spPr>
          <a:xfrm>
            <a:off x="609480" y="21337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–2/3x +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2" name=""/>
          <p:cNvSpPr txBox="1"/>
          <p:nvPr/>
        </p:nvSpPr>
        <p:spPr>
          <a:xfrm>
            <a:off x="1523880" y="1295280"/>
            <a:ext cx="647712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23880" y="1143000"/>
            <a:ext cx="64771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Guess the equ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of each grap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04920" y="2133360"/>
            <a:ext cx="8610480" cy="2895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04920" y="2133360"/>
            <a:ext cx="8610480" cy="2895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81480" y="1828800"/>
            <a:ext cx="266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1/3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3429000" y="304920"/>
            <a:ext cx="2971800" cy="59436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3429000" y="304920"/>
            <a:ext cx="2971800" cy="59436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791320" y="18288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= 2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143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600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057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514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971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429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886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343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800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257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15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172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6294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0866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438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010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458200" y="304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28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28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143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600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057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514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971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429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86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43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800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257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715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172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6294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0866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5438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0010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458200" y="762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8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143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600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057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514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971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29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86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343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800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257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715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72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0866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5438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80010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458200" y="1219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143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600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057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514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71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429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86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343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800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257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715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6294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0866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5438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010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845820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28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85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143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057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514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971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086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543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001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4582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8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5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143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600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257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0866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80010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84582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8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257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715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172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294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0866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8001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4582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28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00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057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514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71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28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600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514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71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86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28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5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143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600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057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14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429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886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001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6294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086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5438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8001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343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800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172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6294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5438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0010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28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85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143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600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971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886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28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85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057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514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971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429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886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800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257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15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172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6294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0866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5438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80010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715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866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5438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0010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00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257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715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172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6294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0866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5438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0010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4582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4582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45820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458200" y="4876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458200" y="5334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845820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800600" y="30492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28600" y="35053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685800" y="762120"/>
            <a:ext cx="8229600" cy="5410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3:07:50Z</dcterms:created>
  <dc:creator>Workstation</dc:creator>
  <dc:description/>
  <dc:language>en-US</dc:language>
  <cp:lastModifiedBy>gary tsuruda</cp:lastModifiedBy>
  <dcterms:modified xsi:type="dcterms:W3CDTF">2005-10-10T21:28:16Z</dcterms:modified>
  <cp:revision>46</cp:revision>
  <dc:subject/>
  <dc:title>No Slide Title</dc:title>
</cp:coreProperties>
</file>