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CDD-E626-4543-84C4-D5D8C530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CF0-B670-4378-8BD1-EBF59741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597-325A-4B95-9AE6-3EC55BF1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A6E-6B62-4748-A82F-318A8D93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D9A-AFFE-46CC-B16C-45D12212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D90-F5A7-4818-AA15-16246C0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0C8-BE63-4BDF-99EF-50439BAD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510-B5AB-4BAE-8F55-190309A4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2A2-F2C6-4E8D-A2BE-438F59E9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401-DB7E-41EA-A354-685792BF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9DC-DD89-457D-8BC8-292A86B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4BB-E074-4502-978A-1461824C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CDCA-2571-4840-BF2A-AC2C50153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838080"/>
            <a:ext cx="769644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FACTO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REVI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(5)  FACTOR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8x</a:t>
            </a:r>
            <a:r>
              <a:rPr b="1" lang="en-US" sz="7200" spc="-1" strike="noStrike" baseline="30000">
                <a:solidFill>
                  <a:srgbClr val="66ffff"/>
                </a:solidFill>
                <a:latin typeface="Arial"/>
              </a:rPr>
              <a:t>3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y</a:t>
            </a:r>
            <a:r>
              <a:rPr b="1" lang="en-US" sz="7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 – 6x</a:t>
            </a:r>
            <a:r>
              <a:rPr b="1" lang="en-US" sz="7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y</a:t>
            </a:r>
            <a:r>
              <a:rPr b="1" lang="en-US" sz="7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– 20xy</a:t>
            </a:r>
            <a:r>
              <a:rPr b="1" lang="en-US" sz="7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2xy</a:t>
            </a:r>
            <a:r>
              <a:rPr b="1" lang="en-US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(4x+5)(x–2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(6)  FACTOR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4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4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y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 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+ 4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y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 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– 8y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4y</a:t>
            </a:r>
            <a:r>
              <a:rPr b="1" lang="en-US" sz="7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7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+2)(x+1)(x–1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(7)  FACTOR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z</a:t>
            </a:r>
            <a:r>
              <a:rPr b="1" lang="en-US" sz="6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(9x</a:t>
            </a:r>
            <a:r>
              <a:rPr b="1" lang="en-US" sz="6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 – 4y</a:t>
            </a:r>
            <a:r>
              <a:rPr b="1" lang="en-US" sz="6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) – (9x</a:t>
            </a:r>
            <a:r>
              <a:rPr b="1" lang="en-US" sz="6000" spc="-1" strike="noStrike" baseline="30000">
                <a:solidFill>
                  <a:srgbClr val="66ffff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–</a:t>
            </a:r>
            <a:r>
              <a:rPr b="1" lang="en-US" sz="6000" spc="-1" strike="noStrike" baseline="30000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4y</a:t>
            </a:r>
            <a:r>
              <a:rPr b="1" lang="en-US" sz="6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8600"/>
            <a:ext cx="914400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3x+2y)(3x–2y)(z+1)(z–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(8)  FACTOR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a</a:t>
            </a:r>
            <a:r>
              <a:rPr b="1" lang="en-US" sz="7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x + b</a:t>
            </a:r>
            <a:r>
              <a:rPr b="1" lang="en-US" sz="7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y – a</a:t>
            </a:r>
            <a:r>
              <a:rPr b="1" lang="en-US" sz="7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y – b</a:t>
            </a:r>
            <a:r>
              <a:rPr b="1" lang="en-US" sz="72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8600"/>
            <a:ext cx="914400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(x–y)(a+b)(a–b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(1)  SOLVE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3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+ x – 5 = 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– 2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"/>
            <a:ext cx="914400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Arial"/>
              </a:rPr>
              <a:t>x = -3/2, 1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(1)  FACTOR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7x</a:t>
            </a:r>
            <a:r>
              <a:rPr b="1" lang="en-US" sz="106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 – 63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(2)  SOLVE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5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+ 3x – 7 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        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2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– 2x – 5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"/>
            <a:ext cx="914400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Arial"/>
              </a:rPr>
              <a:t>x = 1/3, -2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56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(3)  SOLVE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  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7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+ 4x + 7 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3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– 2x +11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Arial"/>
              </a:rPr>
              <a:t>x = 1/2, -2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6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(4)  SOLVE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9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– 6x – 5 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           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3x</a:t>
            </a:r>
            <a:r>
              <a:rPr b="1" lang="en-US" sz="80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66ffff"/>
                </a:solidFill>
                <a:latin typeface="Arial"/>
              </a:rPr>
              <a:t> + 7x – 7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28600"/>
            <a:ext cx="914400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Arial"/>
              </a:rPr>
              <a:t>x = 1/6, 2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57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60093"/>
                </a:solidFill>
                <a:latin typeface="Arial"/>
              </a:rPr>
              <a:t>(1)  SIMPLIFY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2x– 8x – 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4x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 – 7x + 10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962520"/>
            <a:ext cx="7467840" cy="15228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64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ff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ff"/>
                </a:solidFill>
                <a:latin typeface="Arial"/>
              </a:rPr>
              <a:t>x +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ff"/>
                </a:solidFill>
                <a:latin typeface="Arial"/>
              </a:rPr>
              <a:t>2(x – 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66"/>
                </a:solidFill>
                <a:latin typeface="Arial"/>
              </a:rPr>
              <a:t>x ≠ 5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971800"/>
            <a:ext cx="44193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57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60093"/>
                </a:solidFill>
                <a:latin typeface="Arial"/>
              </a:rPr>
              <a:t>(2)  SIMPLIFY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3x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 </a:t>
            </a: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– 12x + 1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6x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 + 6x – 36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962520"/>
            <a:ext cx="7925040" cy="15228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8600"/>
            <a:ext cx="9144000" cy="64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ff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ff"/>
                </a:solidFill>
                <a:latin typeface="Arial"/>
              </a:rPr>
              <a:t>(x – 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ff"/>
                </a:solidFill>
                <a:latin typeface="Arial"/>
              </a:rPr>
              <a:t>2(x + 3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66"/>
                </a:solidFill>
                <a:latin typeface="Arial"/>
              </a:rPr>
              <a:t>x ≠ -3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048120"/>
            <a:ext cx="441936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28600"/>
            <a:ext cx="9144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</a:rPr>
              <a:t>7(x+3)(x–3)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60093"/>
                </a:solidFill>
                <a:latin typeface="Arial"/>
              </a:rPr>
              <a:t>(3)  SIMPLIFY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6x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 </a:t>
            </a: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– 5xy – 6y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9x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 – 4y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962520"/>
            <a:ext cx="7467840" cy="15228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28600"/>
            <a:ext cx="9144000" cy="61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ff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ccff"/>
                </a:solidFill>
                <a:latin typeface="Arial"/>
              </a:rPr>
              <a:t>2x – 3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ccff"/>
                </a:solidFill>
                <a:latin typeface="Arial"/>
              </a:rPr>
              <a:t>3x – 2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66"/>
                </a:solidFill>
                <a:latin typeface="Arial"/>
              </a:rPr>
              <a:t>x ≠ ±    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666880"/>
            <a:ext cx="441936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9600" y="4495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66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9600" y="54100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66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410080"/>
            <a:ext cx="762120" cy="152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57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60093"/>
                </a:solidFill>
                <a:latin typeface="Arial"/>
              </a:rPr>
              <a:t>(4)  SIMPLIFY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2x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 </a:t>
            </a: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+ xy – 6y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6y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9600" spc="-1" strike="noStrike">
                <a:solidFill>
                  <a:srgbClr val="ff3399"/>
                </a:solidFill>
                <a:latin typeface="Arial"/>
              </a:rPr>
              <a:t> – 7xy + 2x</a:t>
            </a:r>
            <a:r>
              <a:rPr b="1" lang="en-US" sz="96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382240" cy="15228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8600"/>
            <a:ext cx="914400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91440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ff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ccff"/>
                </a:solidFill>
                <a:latin typeface="Arial"/>
              </a:rPr>
              <a:t>x + 2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ccff"/>
                </a:solidFill>
                <a:latin typeface="Arial"/>
              </a:rPr>
              <a:t>2y – 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Arial"/>
              </a:rPr>
              <a:t>x ≠ 2y,      y</a:t>
            </a:r>
            <a:r>
              <a:rPr b="1" lang="en-US" sz="96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2743200"/>
            <a:ext cx="335304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114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66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5029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66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5029200"/>
            <a:ext cx="762120" cy="152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4952880"/>
            <a:ext cx="380880" cy="152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(2)  FACTOR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12x</a:t>
            </a:r>
            <a:r>
              <a:rPr b="1" lang="en-US" sz="106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 + 6x – 18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28600"/>
            <a:ext cx="9144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</a:rPr>
              <a:t>6(2x+3)(x–1)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(3)  FACTOR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5x</a:t>
            </a:r>
            <a:r>
              <a:rPr b="1" lang="en-US" sz="106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y</a:t>
            </a:r>
            <a:r>
              <a:rPr b="1" lang="en-US" sz="106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 – 125y</a:t>
            </a:r>
            <a:r>
              <a:rPr b="1" lang="en-US" sz="10600" spc="-1" strike="noStrike" baseline="30000">
                <a:solidFill>
                  <a:srgbClr val="66ffff"/>
                </a:solidFill>
                <a:latin typeface="Arial"/>
              </a:rPr>
              <a:t>2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</a:rPr>
              <a:t>5y</a:t>
            </a:r>
            <a:r>
              <a:rPr b="1" lang="en-US" sz="10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600" spc="-1" strike="noStrike">
                <a:solidFill>
                  <a:srgbClr val="000000"/>
                </a:solidFill>
                <a:latin typeface="Arial"/>
              </a:rPr>
              <a:t>(x+5)(x–5)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(4)  FACTOR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3x</a:t>
            </a:r>
            <a:r>
              <a:rPr b="1" lang="en-US" sz="10600" spc="-1" strike="noStrike" baseline="30000">
                <a:solidFill>
                  <a:srgbClr val="66ffff"/>
                </a:solidFill>
                <a:latin typeface="Arial"/>
              </a:rPr>
              <a:t>9</a:t>
            </a: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y</a:t>
            </a:r>
            <a:r>
              <a:rPr b="1" lang="en-US" sz="10600" spc="-1" strike="noStrike" baseline="30000">
                <a:solidFill>
                  <a:srgbClr val="66ffff"/>
                </a:solidFill>
                <a:latin typeface="Arial"/>
              </a:rPr>
              <a:t>4</a:t>
            </a:r>
            <a:r>
              <a:rPr b="1" lang="en-US" sz="10600" spc="-1" strike="noStrike">
                <a:solidFill>
                  <a:srgbClr val="66ffff"/>
                </a:solidFill>
                <a:latin typeface="Arial"/>
              </a:rPr>
              <a:t> – 3xy</a:t>
            </a:r>
            <a:r>
              <a:rPr b="1" lang="en-US" sz="10600" spc="-1" strike="noStrike" baseline="30000">
                <a:solidFill>
                  <a:srgbClr val="66ffff"/>
                </a:solidFill>
                <a:latin typeface="Arial"/>
              </a:rPr>
              <a:t>4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xy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1)(x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1)(x+1)(x–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17:15:51Z</dcterms:created>
  <dc:creator>Workstation</dc:creator>
  <dc:description/>
  <dc:language>en-US</dc:language>
  <cp:lastModifiedBy>gary tsuruda</cp:lastModifiedBy>
  <dcterms:modified xsi:type="dcterms:W3CDTF">2005-10-10T21:32:00Z</dcterms:modified>
  <cp:revision>70</cp:revision>
  <dc:subject/>
  <dc:title>No Slide Title</dc:title>
</cp:coreProperties>
</file>