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019-2D54-46DB-BD1C-E490F78C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9D6-FE54-45B7-90DC-92C6B016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E0C-27BB-4754-B45C-E2603C4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488-0C36-41A6-86EF-51125655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B3A-E630-4003-8558-EBC9146D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E0D-C250-4382-87A3-8F12D85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097-2AA4-419B-B5F8-EC78F31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C3B-870E-4B73-820E-BF5FCD3C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8B0-010B-474A-9AE3-D9DA3001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0B4-EFC6-4E79-B243-139455C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37F-561C-4CE3-8F99-9E7E9EA3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4CF-A427-4605-BFC3-5C101795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E2D9-9C18-4A8A-8F67-4AF0FA2AD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533520"/>
            <a:ext cx="830592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2d2d2d"/>
                    </a:gs>
                  </a:gsLst>
                  <a:lin ang="5400000"/>
                </a:gradFill>
                <a:latin typeface="Impact"/>
              </a:rPr>
              <a:t>BLACK HO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2d2d2d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2d2d2d"/>
                    </a:gs>
                  </a:gsLst>
                  <a:lin ang="5400000"/>
                </a:gradFill>
                <a:latin typeface="Impact"/>
              </a:rPr>
              <a:t>PROBL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2d2d2d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dd 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46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ivide by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ivide by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ubtract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72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ivide by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Subtract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ubtract your original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dd 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ltiply by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71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ubtract 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9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Subtract 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vide by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88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Subtract 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ivide by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ubtract 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ick a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7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Add 4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Multiply by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Subtract 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ivide by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Subtract 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ltiply by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23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23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Divide by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ivide by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dd twice the original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ivide by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dd twice the original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Subtrac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72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ivide by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dd twice the original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Subtrac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Multiply by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79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ivide by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dd twice the original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Subtrac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Multiply by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dd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86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ivide by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dd twice the original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Subtrac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Multiply by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dd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Divide by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ivide by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dd twice the original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Subtrac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Multiply by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dd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ivide by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dd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Multiply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5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Multiply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Add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6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Multiply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Add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Divide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84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Multiply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Add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Divide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Add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75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Multiply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Add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Divide by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Add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Subtract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72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LACK HOLE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Pick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ultiply by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28:43Z</dcterms:modified>
  <cp:revision>24</cp:revision>
  <dc:subject/>
  <dc:title>No Slide Title</dc:title>
</cp:coreProperties>
</file>