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69B9-F5FA-4D46-B43F-21553834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D93-72F8-4756-BA73-09DB2FD8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5F1-7C64-4AA3-82AD-ABEDC50C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C6C-8D50-40BC-B610-9F529671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B28-5E3D-46AE-8123-C3772967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D26F-42F8-4DAA-8DD0-5870A9A2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404-0557-42BC-89EB-DF6D954F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89F-5ECB-4C59-A7E1-C7E9CCC5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C93-EBC0-4614-8D5A-995DA32C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EE5-16B4-40A3-8027-5D887B6F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C6FA-A609-406B-828F-C07DECA6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680-5090-4B1A-A573-A9ECB463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923C-CEAE-412E-A1B0-78CC87828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051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Bertram LET"/>
              </a:rPr>
              <a:t>MULTIPLICATION ESTIMA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1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1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50 x 70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1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1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35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,0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78 x 4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78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4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78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4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__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4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78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400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4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35812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,0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1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6 x 2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5000 x 3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5000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31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   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5000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__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35812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5000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31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5000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3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35812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0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3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0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3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,0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489 x 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489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7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___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0120" y="35812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489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7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35812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35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1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79 x 2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79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__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__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35812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79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35812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91 x 38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91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384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__ x ___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35812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91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384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90 x 4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35812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x 4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x 4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,0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1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f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48 x 79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f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48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79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__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___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5812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f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48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79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50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8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35812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f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8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2f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8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,0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3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Bertram LET"/>
              </a:rPr>
              <a:t>BETTer estima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48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2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3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Bertram LET"/>
              </a:rPr>
              <a:t>BETTer estima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48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2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3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Bertram LET"/>
              </a:rPr>
              <a:t>BETTer estima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48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2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__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__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5812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3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Bertram LET"/>
              </a:rPr>
              <a:t>BETTer estima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48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2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5812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3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Bertram LET"/>
              </a:rPr>
              <a:t>BETTer estima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1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8 x 30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3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Bertram LET"/>
              </a:rPr>
              <a:t>BETTer estima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3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Bertram LET"/>
              </a:rPr>
              <a:t>BETTer estima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50 x 3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ffff"/>
                </a:solidFill>
                <a:latin typeface="Arial"/>
              </a:rPr>
              <a:t>1500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8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66ffff"/>
                </a:solidFill>
                <a:latin typeface="Arial"/>
              </a:rPr>
              <a:t>or</a:t>
            </a:r>
            <a:r>
              <a:rPr b="1" lang="en-US" sz="8800" spc="-1" strike="noStrike">
                <a:solidFill>
                  <a:srgbClr val="66ffff"/>
                </a:solidFill>
                <a:latin typeface="Arial"/>
              </a:rPr>
              <a:t> 1500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8800" spc="-1" strike="noStrike">
                <a:solidFill>
                  <a:srgbClr val="66ffff"/>
                </a:solidFill>
                <a:latin typeface="Arial"/>
              </a:rPr>
              <a:t> ?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3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Bertram LET"/>
              </a:rPr>
              <a:t>BETTer estima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207 x 4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3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Bertram LET"/>
              </a:rPr>
              <a:t>BETTer estima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207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4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5812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81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3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Bertram LET"/>
              </a:rPr>
              <a:t>BETTer estima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207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4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___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__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5812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81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3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Bertram LET"/>
              </a:rPr>
              <a:t>BETTer estima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207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4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200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4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35812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3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Bertram LET"/>
              </a:rPr>
              <a:t>BETTer estima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81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3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Bertram LET"/>
              </a:rPr>
              <a:t>BETTer estima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3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Bertram LET"/>
              </a:rPr>
              <a:t>BETTer estima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200 x 4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ffff"/>
                </a:solidFill>
                <a:latin typeface="Arial"/>
              </a:rPr>
              <a:t>8000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8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66ffff"/>
                </a:solidFill>
                <a:latin typeface="Arial"/>
              </a:rPr>
              <a:t>or</a:t>
            </a:r>
            <a:r>
              <a:rPr b="1" lang="en-US" sz="8800" spc="-1" strike="noStrike">
                <a:solidFill>
                  <a:srgbClr val="66ffff"/>
                </a:solidFill>
                <a:latin typeface="Arial"/>
              </a:rPr>
              <a:t> 8000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8800" spc="-1" strike="noStrike">
                <a:solidFill>
                  <a:srgbClr val="66ffff"/>
                </a:solidFill>
                <a:latin typeface="Arial"/>
              </a:rPr>
              <a:t> ?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8080" y="2681280"/>
            <a:ext cx="746784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Impact"/>
              </a:rPr>
              <a:t>the end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1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1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0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,0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1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40 x 3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ertram LET"/>
              </a:rPr>
              <a:t>Level 1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rtram LET"/>
              </a:rPr>
              <a:t>MENTAL COMP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x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0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3:07:50Z</dcterms:created>
  <dc:creator>Workstation</dc:creator>
  <dc:description/>
  <dc:language>en-US</dc:language>
  <cp:lastModifiedBy>gary tsuruda</cp:lastModifiedBy>
  <dcterms:modified xsi:type="dcterms:W3CDTF">2005-10-10T21:34:36Z</dcterms:modified>
  <cp:revision>15</cp:revision>
  <dc:subject/>
  <dc:title>No Slide Title</dc:title>
</cp:coreProperties>
</file>