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E9A-A9B4-4480-BAFF-41B1FD71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50D-20CD-460A-9D85-9F9AB3D3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365-7068-4AD2-B675-F50DF858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AD8-C9CB-4683-A308-8AC7557E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5AD-DB4B-4883-A729-960EDCB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2A3-9246-4F0F-85EF-B961491D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286-7901-4978-BDFC-33410E36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7D5-13F7-44D4-B184-B4FDE092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0F0-7FF4-46B4-87B2-22640F9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6DA-655F-45E9-AA96-961AEE5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4EE-5BAE-45CE-A38E-560EA95C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5FB-8E90-4FB4-9C09-CCC4E4AA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C0F9-9A35-4A7F-9855-F81605E28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838080"/>
            <a:ext cx="784872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GEO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ARE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flipV="1">
            <a:off x="1066680" y="2057040"/>
            <a:ext cx="175284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98108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13372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5105520"/>
            <a:ext cx="7391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1981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3581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flipV="1">
            <a:off x="1066680" y="2057040"/>
            <a:ext cx="175284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95480" y="198108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213372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5105520"/>
            <a:ext cx="7391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1981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3581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2362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81480" y="2362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3886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3886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 flipV="1">
            <a:off x="1066680" y="2057040"/>
            <a:ext cx="175284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198108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213372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5105520"/>
            <a:ext cx="7391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24280" y="2057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1981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581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2362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2362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3886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3886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3505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81680" y="3505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HRIS'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HOP STRATEG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533520"/>
            <a:ext cx="548640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flipH="1" rot="10810800">
            <a:off x="988920" y="455400"/>
            <a:ext cx="1827360" cy="3201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895480" y="3581280"/>
            <a:ext cx="1828800" cy="297180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0825800">
            <a:off x="2742840" y="455400"/>
            <a:ext cx="5711760" cy="31226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3505320"/>
            <a:ext cx="1904760" cy="304776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3657600"/>
            <a:ext cx="3733920" cy="2895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4300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5029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4300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19320" y="5029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48520" y="914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19320" y="5029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48520" y="914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24280" y="3581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4300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5029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48520" y="914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24280" y="3581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5880" y="4191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5029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248520" y="914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24280" y="3581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5880" y="4191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733920" y="51055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990720" y="65530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724280" y="365760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90720" y="53352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8458200" y="533160"/>
            <a:ext cx="0" cy="6019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990720" y="4572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066680" y="533160"/>
            <a:ext cx="175284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95480" y="533520"/>
            <a:ext cx="5486400" cy="3047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2895480" y="3657600"/>
            <a:ext cx="182880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1066680" y="365724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19320" y="5029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248520" y="914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24280" y="3581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5880" y="4191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33920" y="51055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47920" y="2590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 = 16 – 10 =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 flipV="1">
            <a:off x="1066680" y="533520"/>
            <a:ext cx="5486400" cy="30477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53080" y="533520"/>
            <a:ext cx="1905120" cy="60195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4724280" y="1981080"/>
            <a:ext cx="3657600" cy="4572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724280" y="1981080"/>
            <a:ext cx="0" cy="44960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2895480" y="3581280"/>
            <a:ext cx="182880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066680" y="3657600"/>
            <a:ext cx="1828800" cy="28195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066680" y="3581280"/>
            <a:ext cx="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 flipV="1">
            <a:off x="1066680" y="533520"/>
            <a:ext cx="0" cy="30477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45820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066680" y="655308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066680" y="533520"/>
            <a:ext cx="5486400" cy="30477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553080" y="533520"/>
            <a:ext cx="1905120" cy="60195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4724280" y="1981080"/>
            <a:ext cx="3657600" cy="4572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24280" y="1981080"/>
            <a:ext cx="0" cy="44960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2895480" y="3581280"/>
            <a:ext cx="182880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066680" y="3657600"/>
            <a:ext cx="1828800" cy="28195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066680" y="3581280"/>
            <a:ext cx="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 rot="10840200">
            <a:off x="6474600" y="531360"/>
            <a:ext cx="1978200" cy="587556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5400000">
            <a:off x="2286000" y="-685800"/>
            <a:ext cx="3047760" cy="548640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24280" y="1981080"/>
            <a:ext cx="3657600" cy="457200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19520" y="3505320"/>
            <a:ext cx="1981080" cy="304776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065960" y="3733920"/>
            <a:ext cx="1752840" cy="281916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066680" y="533520"/>
            <a:ext cx="0" cy="30477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45820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1066680" y="655308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1066680" y="533520"/>
            <a:ext cx="5486400" cy="30477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553080" y="533520"/>
            <a:ext cx="1905120" cy="60195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4724280" y="1981080"/>
            <a:ext cx="3657600" cy="4572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724280" y="1981080"/>
            <a:ext cx="0" cy="44960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2895480" y="3581280"/>
            <a:ext cx="182880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1066680" y="3657600"/>
            <a:ext cx="1828800" cy="28195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066680" y="3581280"/>
            <a:ext cx="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 flipV="1">
            <a:off x="1066680" y="533520"/>
            <a:ext cx="0" cy="30477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45820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066680" y="655308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066680" y="533520"/>
            <a:ext cx="5486400" cy="30477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53080" y="533520"/>
            <a:ext cx="1905120" cy="60195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4724280" y="1981080"/>
            <a:ext cx="3657600" cy="4572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724280" y="1981080"/>
            <a:ext cx="0" cy="44960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2895480" y="3581280"/>
            <a:ext cx="182880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1066680" y="3657600"/>
            <a:ext cx="1828800" cy="28195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066680" y="3581280"/>
            <a:ext cx="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86000" y="990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 flipV="1">
            <a:off x="1066680" y="533520"/>
            <a:ext cx="0" cy="30477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45820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1066680" y="655308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066680" y="533520"/>
            <a:ext cx="5486400" cy="30477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533520"/>
            <a:ext cx="1905120" cy="60195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4724280" y="1981080"/>
            <a:ext cx="3657600" cy="4572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24280" y="1981080"/>
            <a:ext cx="0" cy="44960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2895480" y="3581280"/>
            <a:ext cx="182880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1066680" y="3657600"/>
            <a:ext cx="1828800" cy="28195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1066680" y="3581280"/>
            <a:ext cx="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86000" y="990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362320" y="51814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 flipV="1">
            <a:off x="1066680" y="533520"/>
            <a:ext cx="0" cy="30477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45820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066680" y="655308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066680" y="533520"/>
            <a:ext cx="5486400" cy="30477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553080" y="533520"/>
            <a:ext cx="1905120" cy="60195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 flipV="1">
            <a:off x="4724280" y="1981080"/>
            <a:ext cx="3657600" cy="4572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724280" y="1981080"/>
            <a:ext cx="0" cy="44960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2895480" y="3581280"/>
            <a:ext cx="182880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066680" y="3657600"/>
            <a:ext cx="1828800" cy="28195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066680" y="3581280"/>
            <a:ext cx="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86000" y="990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362320" y="51814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334120" y="4648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533520"/>
            <a:ext cx="0" cy="3124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65760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457200"/>
            <a:ext cx="0" cy="3124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5720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9600" y="304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29600" y="1828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3352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29600" y="4800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29600" y="6248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 flipV="1">
            <a:off x="1066680" y="533520"/>
            <a:ext cx="0" cy="30477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5820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066680" y="655308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1066680" y="533520"/>
            <a:ext cx="5486400" cy="30477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553080" y="533520"/>
            <a:ext cx="1905120" cy="60195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4724280" y="1981080"/>
            <a:ext cx="3657600" cy="4572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724280" y="1981080"/>
            <a:ext cx="0" cy="44960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2895480" y="3581280"/>
            <a:ext cx="182880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066680" y="3657600"/>
            <a:ext cx="1828800" cy="28195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066680" y="3581280"/>
            <a:ext cx="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86000" y="990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362320" y="51814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334120" y="4648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315200" y="1905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 flipV="1">
            <a:off x="1066680" y="533520"/>
            <a:ext cx="0" cy="30477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45820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066680" y="655308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066680" y="533520"/>
            <a:ext cx="5486400" cy="30477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553080" y="533520"/>
            <a:ext cx="1905120" cy="601956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 flipV="1">
            <a:off x="4724280" y="1981080"/>
            <a:ext cx="3657600" cy="4572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724280" y="1981080"/>
            <a:ext cx="0" cy="44960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2895480" y="3581280"/>
            <a:ext cx="182880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066680" y="3657600"/>
            <a:ext cx="1828800" cy="28195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066680" y="3581280"/>
            <a:ext cx="0" cy="28958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86000" y="990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362320" y="51814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334120" y="4648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315200" y="1905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66680" y="2438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 = 16 – 10 = 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066680" y="457200"/>
            <a:ext cx="739152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4724280" y="2057400"/>
            <a:ext cx="373392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724280" y="3581280"/>
            <a:ext cx="18288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2895480" y="3581280"/>
            <a:ext cx="36576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95480" y="3581280"/>
            <a:ext cx="3657600" cy="28958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1066680" y="5028840"/>
            <a:ext cx="548640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066680" y="2057040"/>
            <a:ext cx="1828800" cy="297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>
            <a:off x="1143000" y="533160"/>
            <a:ext cx="175248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 flipV="1">
            <a:off x="106668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066680" y="64771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838188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66680" y="533520"/>
            <a:ext cx="739152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724280" y="2057400"/>
            <a:ext cx="373392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724280" y="3581280"/>
            <a:ext cx="18288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 flipV="1">
            <a:off x="2895480" y="3581280"/>
            <a:ext cx="36576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95480" y="3581280"/>
            <a:ext cx="3657600" cy="28958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 flipV="1">
            <a:off x="1066680" y="5029200"/>
            <a:ext cx="54864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066680" y="2057040"/>
            <a:ext cx="1828800" cy="297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 flipV="1">
            <a:off x="1143000" y="533160"/>
            <a:ext cx="175248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 flipV="1">
            <a:off x="106668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66680" y="64771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838188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66680" y="533520"/>
            <a:ext cx="739152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724280" y="2057400"/>
            <a:ext cx="373392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24280" y="3581280"/>
            <a:ext cx="18288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 flipV="1">
            <a:off x="2895480" y="3581280"/>
            <a:ext cx="36576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581280"/>
            <a:ext cx="3657600" cy="28958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 flipV="1">
            <a:off x="1066680" y="5029200"/>
            <a:ext cx="54864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066680" y="2057040"/>
            <a:ext cx="1828800" cy="297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 flipV="1">
            <a:off x="1143000" y="533160"/>
            <a:ext cx="175248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219320" y="19051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82880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867280" y="609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800600" y="35812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553080" y="3657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934320" y="25909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85800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724280" y="4648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 flipV="1">
            <a:off x="106668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066680" y="64771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066680" y="53352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8381880" y="5335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066680" y="533520"/>
            <a:ext cx="739152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4724280" y="2057400"/>
            <a:ext cx="373392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724280" y="3581280"/>
            <a:ext cx="18288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2895480" y="3581280"/>
            <a:ext cx="36576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895480" y="3581280"/>
            <a:ext cx="3657600" cy="28958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1066680" y="5029200"/>
            <a:ext cx="5486400" cy="1447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066680" y="2057040"/>
            <a:ext cx="1828800" cy="297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1143000" y="533160"/>
            <a:ext cx="1752480" cy="15238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19320" y="19051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82880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867280" y="609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800600" y="35812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553080" y="3657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934320" y="25909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85800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33412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24280" y="4648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rot="19212600">
            <a:off x="820800" y="287460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 = 16 – 9.5 = 6.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 flipH="1">
            <a:off x="990360" y="2057400"/>
            <a:ext cx="190476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3581280"/>
            <a:ext cx="380988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2895480" y="3581280"/>
            <a:ext cx="182880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95480" y="3581280"/>
            <a:ext cx="373392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6629400" y="2057040"/>
            <a:ext cx="175248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6553080" y="2057400"/>
            <a:ext cx="182880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2895480" y="2057040"/>
            <a:ext cx="365760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990720" y="2057400"/>
            <a:ext cx="0" cy="29718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502920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8458200" y="2057040"/>
            <a:ext cx="0" cy="29718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1066680" y="1981080"/>
            <a:ext cx="73915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990360" y="2057400"/>
            <a:ext cx="190476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90720" y="3581280"/>
            <a:ext cx="380988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2895480" y="3581280"/>
            <a:ext cx="182880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895480" y="3581280"/>
            <a:ext cx="373392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629400" y="2057040"/>
            <a:ext cx="175248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553080" y="2057400"/>
            <a:ext cx="182880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 flipV="1">
            <a:off x="2895480" y="2057040"/>
            <a:ext cx="365760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990720" y="2057400"/>
            <a:ext cx="0" cy="29718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990720" y="502920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8458200" y="2057040"/>
            <a:ext cx="0" cy="29718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1066680" y="1981080"/>
            <a:ext cx="73915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990360" y="2057400"/>
            <a:ext cx="190476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990720" y="3581280"/>
            <a:ext cx="380988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>
            <a:off x="2895480" y="3581280"/>
            <a:ext cx="182880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95480" y="3581280"/>
            <a:ext cx="373392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6629400" y="2057040"/>
            <a:ext cx="175248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6553080" y="2057400"/>
            <a:ext cx="182880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>
            <a:off x="2895480" y="2057040"/>
            <a:ext cx="365760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066680" y="54100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 = 8 – 4.5 = 3.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533520"/>
            <a:ext cx="0" cy="3124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65760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457200"/>
            <a:ext cx="0" cy="3124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5720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304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1828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9600" y="3352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9600" y="4800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6248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948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05740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533520"/>
            <a:ext cx="0" cy="3124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65760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457200"/>
            <a:ext cx="0" cy="3124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5720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304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29600" y="1828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29600" y="3352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4800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6248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6094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5335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057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838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362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438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838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838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438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533520"/>
            <a:ext cx="0" cy="45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10552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066680" y="533520"/>
            <a:ext cx="5562720" cy="4495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304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1828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29600" y="3352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4800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29600" y="6248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90720" y="533520"/>
            <a:ext cx="0" cy="45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10552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1066680" y="533520"/>
            <a:ext cx="5562720" cy="4495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29600" y="304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1828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29600" y="3352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29600" y="4800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29600" y="6248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2057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581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2057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90720" y="533520"/>
            <a:ext cx="0" cy="45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5105520"/>
            <a:ext cx="5562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066680" y="533520"/>
            <a:ext cx="5562720" cy="4495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29600" y="304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1828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29600" y="3352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29600" y="4800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29600" y="6248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057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3581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057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2362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3886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886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371600" y="1143000"/>
                <a:ext cx="6094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2666880"/>
                <a:ext cx="6094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105520" y="4114800"/>
                <a:ext cx="6094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flipV="1">
            <a:off x="1066680" y="2057040"/>
            <a:ext cx="175284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981080"/>
            <a:ext cx="3657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2133720"/>
            <a:ext cx="182880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5105520"/>
            <a:ext cx="7391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3808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296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9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876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44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6324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17:15:51Z</dcterms:created>
  <dc:creator>Workstation</dc:creator>
  <dc:description/>
  <dc:language>en-US</dc:language>
  <cp:lastModifiedBy>gary tsuruda</cp:lastModifiedBy>
  <dcterms:modified xsi:type="dcterms:W3CDTF">2005-10-10T21:31:07Z</dcterms:modified>
  <cp:revision>63</cp:revision>
  <dc:subject/>
  <dc:title>No Slide Title</dc:title>
</cp:coreProperties>
</file>