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B38E-940C-4797-9380-EAD6637E6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EBE1-D893-4C2A-B4B1-617A63751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E6AF-F7BC-4179-A590-D1CC1FF34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FF66-5F99-470F-85C6-F1B97E4FD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D106-E06A-40FB-B04E-7E8246BBC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BD59-06B0-4D52-AA9D-D6D99FFB3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2834-6A9B-4FC2-A599-B4AAA5285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6D1F-51C9-4EE8-AD58-79B1B0EE6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811E-FEEB-4F53-859B-7547F96A9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8C53-548D-4E48-BE30-4DFFE331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EF64-D937-423B-85F8-35AB093D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9B82-345A-40DB-A99D-51C00908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00FD3-3206-430B-A5BF-6630852733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62120" y="457200"/>
            <a:ext cx="7619760" cy="586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ffff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Compound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00ffff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ffff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Probability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00ffff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-152280"/>
            <a:ext cx="9144000" cy="67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MPOUND PROBAB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his is the tree diagram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429000" y="1676520"/>
            <a:ext cx="1523880" cy="457200"/>
            <a:chOff x="3429000" y="1676520"/>
            <a:chExt cx="1523880" cy="457200"/>
          </a:xfrm>
        </p:grpSpPr>
        <p:sp>
          <p:nvSpPr>
            <p:cNvPr id="106" name=""/>
            <p:cNvSpPr/>
            <p:nvPr/>
          </p:nvSpPr>
          <p:spPr>
            <a:xfrm flipV="1">
              <a:off x="3429000" y="1676520"/>
              <a:ext cx="1523880" cy="3808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29000" y="2057400"/>
              <a:ext cx="1523880" cy="763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3429000" y="2514600"/>
            <a:ext cx="1523880" cy="457200"/>
            <a:chOff x="3429000" y="2514600"/>
            <a:chExt cx="1523880" cy="457200"/>
          </a:xfrm>
        </p:grpSpPr>
        <p:sp>
          <p:nvSpPr>
            <p:cNvPr id="109" name=""/>
            <p:cNvSpPr/>
            <p:nvPr/>
          </p:nvSpPr>
          <p:spPr>
            <a:xfrm flipV="1">
              <a:off x="3429000" y="2514600"/>
              <a:ext cx="1523880" cy="3808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429000" y="2895480"/>
              <a:ext cx="1523880" cy="763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3429000" y="3352680"/>
            <a:ext cx="1523880" cy="457200"/>
            <a:chOff x="3429000" y="3352680"/>
            <a:chExt cx="1523880" cy="457200"/>
          </a:xfrm>
        </p:grpSpPr>
        <p:sp>
          <p:nvSpPr>
            <p:cNvPr id="112" name=""/>
            <p:cNvSpPr/>
            <p:nvPr/>
          </p:nvSpPr>
          <p:spPr>
            <a:xfrm flipV="1">
              <a:off x="3429000" y="3352680"/>
              <a:ext cx="1523880" cy="3808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429000" y="3733560"/>
              <a:ext cx="1523880" cy="763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505320" y="4191120"/>
            <a:ext cx="1523880" cy="457200"/>
            <a:chOff x="3505320" y="4191120"/>
            <a:chExt cx="1523880" cy="457200"/>
          </a:xfrm>
        </p:grpSpPr>
        <p:sp>
          <p:nvSpPr>
            <p:cNvPr id="115" name=""/>
            <p:cNvSpPr/>
            <p:nvPr/>
          </p:nvSpPr>
          <p:spPr>
            <a:xfrm flipV="1">
              <a:off x="3505320" y="4191120"/>
              <a:ext cx="1523880" cy="3808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05320" y="4572000"/>
              <a:ext cx="1523880" cy="763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3505320" y="5029200"/>
            <a:ext cx="1523880" cy="457200"/>
            <a:chOff x="3505320" y="5029200"/>
            <a:chExt cx="1523880" cy="457200"/>
          </a:xfrm>
        </p:grpSpPr>
        <p:sp>
          <p:nvSpPr>
            <p:cNvPr id="118" name=""/>
            <p:cNvSpPr/>
            <p:nvPr/>
          </p:nvSpPr>
          <p:spPr>
            <a:xfrm flipV="1">
              <a:off x="3505320" y="5029200"/>
              <a:ext cx="1523880" cy="3808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505320" y="5410080"/>
              <a:ext cx="1523880" cy="763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505320" y="5867280"/>
            <a:ext cx="1523880" cy="457200"/>
            <a:chOff x="3505320" y="5867280"/>
            <a:chExt cx="1523880" cy="457200"/>
          </a:xfrm>
        </p:grpSpPr>
        <p:sp>
          <p:nvSpPr>
            <p:cNvPr id="121" name=""/>
            <p:cNvSpPr/>
            <p:nvPr/>
          </p:nvSpPr>
          <p:spPr>
            <a:xfrm flipV="1">
              <a:off x="3505320" y="5867280"/>
              <a:ext cx="1523880" cy="3808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505320" y="6248160"/>
              <a:ext cx="1523880" cy="763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5257800" y="1371600"/>
            <a:ext cx="13716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-152280"/>
            <a:ext cx="9144000" cy="67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MPOUND PROBAB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his is the tree diagram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3429000" y="1676520"/>
            <a:ext cx="1523880" cy="457200"/>
            <a:chOff x="3429000" y="1676520"/>
            <a:chExt cx="1523880" cy="457200"/>
          </a:xfrm>
        </p:grpSpPr>
        <p:sp>
          <p:nvSpPr>
            <p:cNvPr id="132" name=""/>
            <p:cNvSpPr/>
            <p:nvPr/>
          </p:nvSpPr>
          <p:spPr>
            <a:xfrm flipV="1">
              <a:off x="3429000" y="1676520"/>
              <a:ext cx="1523880" cy="3808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429000" y="2057400"/>
              <a:ext cx="1523880" cy="763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29000" y="2514600"/>
            <a:ext cx="1523880" cy="457200"/>
            <a:chOff x="3429000" y="2514600"/>
            <a:chExt cx="1523880" cy="457200"/>
          </a:xfrm>
        </p:grpSpPr>
        <p:sp>
          <p:nvSpPr>
            <p:cNvPr id="135" name=""/>
            <p:cNvSpPr/>
            <p:nvPr/>
          </p:nvSpPr>
          <p:spPr>
            <a:xfrm flipV="1">
              <a:off x="3429000" y="2514600"/>
              <a:ext cx="1523880" cy="3808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429000" y="2895480"/>
              <a:ext cx="1523880" cy="763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3429000" y="3352680"/>
            <a:ext cx="1523880" cy="457200"/>
            <a:chOff x="3429000" y="3352680"/>
            <a:chExt cx="1523880" cy="457200"/>
          </a:xfrm>
        </p:grpSpPr>
        <p:sp>
          <p:nvSpPr>
            <p:cNvPr id="138" name=""/>
            <p:cNvSpPr/>
            <p:nvPr/>
          </p:nvSpPr>
          <p:spPr>
            <a:xfrm flipV="1">
              <a:off x="3429000" y="3352680"/>
              <a:ext cx="1523880" cy="3808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429000" y="3733560"/>
              <a:ext cx="1523880" cy="763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3505320" y="4191120"/>
            <a:ext cx="1523880" cy="457200"/>
            <a:chOff x="3505320" y="4191120"/>
            <a:chExt cx="1523880" cy="457200"/>
          </a:xfrm>
        </p:grpSpPr>
        <p:sp>
          <p:nvSpPr>
            <p:cNvPr id="141" name=""/>
            <p:cNvSpPr/>
            <p:nvPr/>
          </p:nvSpPr>
          <p:spPr>
            <a:xfrm flipV="1">
              <a:off x="3505320" y="4191120"/>
              <a:ext cx="1523880" cy="3808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505320" y="4572000"/>
              <a:ext cx="1523880" cy="763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3505320" y="5029200"/>
            <a:ext cx="1523880" cy="457200"/>
            <a:chOff x="3505320" y="5029200"/>
            <a:chExt cx="1523880" cy="457200"/>
          </a:xfrm>
        </p:grpSpPr>
        <p:sp>
          <p:nvSpPr>
            <p:cNvPr id="144" name=""/>
            <p:cNvSpPr/>
            <p:nvPr/>
          </p:nvSpPr>
          <p:spPr>
            <a:xfrm flipV="1">
              <a:off x="3505320" y="5029200"/>
              <a:ext cx="1523880" cy="3808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505320" y="5410080"/>
              <a:ext cx="1523880" cy="763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3505320" y="5867280"/>
            <a:ext cx="1523880" cy="457200"/>
            <a:chOff x="3505320" y="5867280"/>
            <a:chExt cx="1523880" cy="457200"/>
          </a:xfrm>
        </p:grpSpPr>
        <p:sp>
          <p:nvSpPr>
            <p:cNvPr id="147" name=""/>
            <p:cNvSpPr/>
            <p:nvPr/>
          </p:nvSpPr>
          <p:spPr>
            <a:xfrm flipV="1">
              <a:off x="3505320" y="5867280"/>
              <a:ext cx="1523880" cy="3808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05320" y="6248160"/>
              <a:ext cx="1523880" cy="763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5257800" y="1371600"/>
            <a:ext cx="13716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77960" y="5678640"/>
            <a:ext cx="3310200" cy="896760"/>
          </a:xfrm>
          <a:custGeom>
            <a:avLst/>
            <a:gdLst/>
            <a:ahLst/>
            <a:rect l="l" t="t" r="r" b="b"/>
            <a:pathLst>
              <a:path w="2085" h="565">
                <a:moveTo>
                  <a:pt x="86" y="117"/>
                </a:moveTo>
                <a:cubicBezTo>
                  <a:pt x="42" y="160"/>
                  <a:pt x="13" y="206"/>
                  <a:pt x="0" y="266"/>
                </a:cubicBezTo>
                <a:cubicBezTo>
                  <a:pt x="4" y="343"/>
                  <a:pt x="3" y="375"/>
                  <a:pt x="23" y="439"/>
                </a:cubicBezTo>
                <a:cubicBezTo>
                  <a:pt x="27" y="454"/>
                  <a:pt x="25" y="476"/>
                  <a:pt x="39" y="486"/>
                </a:cubicBezTo>
                <a:cubicBezTo>
                  <a:pt x="46" y="491"/>
                  <a:pt x="77" y="513"/>
                  <a:pt x="86" y="517"/>
                </a:cubicBezTo>
                <a:cubicBezTo>
                  <a:pt x="101" y="523"/>
                  <a:pt x="133" y="533"/>
                  <a:pt x="133" y="533"/>
                </a:cubicBezTo>
                <a:cubicBezTo>
                  <a:pt x="159" y="551"/>
                  <a:pt x="179" y="556"/>
                  <a:pt x="211" y="565"/>
                </a:cubicBezTo>
                <a:cubicBezTo>
                  <a:pt x="318" y="560"/>
                  <a:pt x="412" y="552"/>
                  <a:pt x="517" y="541"/>
                </a:cubicBezTo>
                <a:cubicBezTo>
                  <a:pt x="559" y="536"/>
                  <a:pt x="643" y="525"/>
                  <a:pt x="643" y="525"/>
                </a:cubicBezTo>
                <a:cubicBezTo>
                  <a:pt x="731" y="502"/>
                  <a:pt x="823" y="484"/>
                  <a:pt x="909" y="455"/>
                </a:cubicBezTo>
                <a:cubicBezTo>
                  <a:pt x="924" y="408"/>
                  <a:pt x="963" y="421"/>
                  <a:pt x="1004" y="408"/>
                </a:cubicBezTo>
                <a:cubicBezTo>
                  <a:pt x="1142" y="416"/>
                  <a:pt x="1329" y="417"/>
                  <a:pt x="1466" y="376"/>
                </a:cubicBezTo>
                <a:cubicBezTo>
                  <a:pt x="1506" y="363"/>
                  <a:pt x="1543" y="347"/>
                  <a:pt x="1584" y="337"/>
                </a:cubicBezTo>
                <a:cubicBezTo>
                  <a:pt x="1640" y="297"/>
                  <a:pt x="1704" y="302"/>
                  <a:pt x="1772" y="298"/>
                </a:cubicBezTo>
                <a:cubicBezTo>
                  <a:pt x="1849" y="282"/>
                  <a:pt x="1923" y="254"/>
                  <a:pt x="2000" y="235"/>
                </a:cubicBezTo>
                <a:cubicBezTo>
                  <a:pt x="2025" y="217"/>
                  <a:pt x="2070" y="172"/>
                  <a:pt x="2070" y="172"/>
                </a:cubicBezTo>
                <a:cubicBezTo>
                  <a:pt x="2085" y="128"/>
                  <a:pt x="2076" y="85"/>
                  <a:pt x="2031" y="70"/>
                </a:cubicBezTo>
                <a:cubicBezTo>
                  <a:pt x="1975" y="16"/>
                  <a:pt x="1884" y="7"/>
                  <a:pt x="1811" y="0"/>
                </a:cubicBezTo>
                <a:cubicBezTo>
                  <a:pt x="1695" y="4"/>
                  <a:pt x="1593" y="6"/>
                  <a:pt x="1482" y="23"/>
                </a:cubicBezTo>
                <a:cubicBezTo>
                  <a:pt x="1414" y="32"/>
                  <a:pt x="1345" y="65"/>
                  <a:pt x="1278" y="70"/>
                </a:cubicBezTo>
                <a:cubicBezTo>
                  <a:pt x="1215" y="74"/>
                  <a:pt x="1152" y="75"/>
                  <a:pt x="1090" y="78"/>
                </a:cubicBezTo>
                <a:cubicBezTo>
                  <a:pt x="784" y="72"/>
                  <a:pt x="492" y="63"/>
                  <a:pt x="188" y="78"/>
                </a:cubicBezTo>
                <a:cubicBezTo>
                  <a:pt x="169" y="80"/>
                  <a:pt x="151" y="81"/>
                  <a:pt x="133" y="86"/>
                </a:cubicBezTo>
                <a:cubicBezTo>
                  <a:pt x="116" y="89"/>
                  <a:pt x="86" y="102"/>
                  <a:pt x="86" y="102"/>
                </a:cubicBezTo>
                <a:cubicBezTo>
                  <a:pt x="76" y="128"/>
                  <a:pt x="72" y="130"/>
                  <a:pt x="86" y="117"/>
                </a:cubicBezTo>
                <a:close/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76320"/>
            <a:ext cx="9144000" cy="64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8960" indent="-85896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FIND THESE COMPOUND PROBABILI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cc"/>
                </a:solidFill>
                <a:latin typeface="Arial"/>
              </a:rPr>
              <a:t>1)  Roll a regular die and pick a card from a regular deck of playing card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66ffcc"/>
                </a:solidFill>
                <a:latin typeface="Arial"/>
              </a:rPr>
              <a:t>Find the probability of getting a 3 and a face car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)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76320"/>
            <a:ext cx="9144000" cy="45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8960" indent="-85896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FIND THESE COMPOUND PROBABILI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ffcc"/>
                </a:solidFill>
                <a:latin typeface="Arial"/>
              </a:rPr>
              <a:t>1)  P(3)  = 1/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)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76320"/>
            <a:ext cx="914400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8960" indent="-85896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FIND THESE COMPOUND PROBABILI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ffcc"/>
                </a:solidFill>
                <a:latin typeface="Arial"/>
              </a:rPr>
              <a:t>1)  P(3)  = 1/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1" lang="en-US" sz="6000" spc="-1" strike="noStrike">
                <a:solidFill>
                  <a:srgbClr val="66ffcc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66ffcc"/>
                </a:solidFill>
                <a:latin typeface="Arial"/>
              </a:rPr>
              <a:t>P(face card)  = 4/1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)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76320"/>
            <a:ext cx="9144000" cy="71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8960" indent="-85896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FIND THESE COMPOUND PROBABILI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ffcc"/>
                </a:solidFill>
                <a:latin typeface="Arial"/>
              </a:rPr>
              <a:t>1)  P(3)  = 1/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1" lang="en-US" sz="6000" spc="-1" strike="noStrike">
                <a:solidFill>
                  <a:srgbClr val="66ffcc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66ffcc"/>
                </a:solidFill>
                <a:latin typeface="Arial"/>
              </a:rPr>
              <a:t>P(face card)  = 4/1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1" lang="en-US" sz="6000" spc="-1" strike="noStrike">
                <a:solidFill>
                  <a:srgbClr val="66ffcc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66ffcc"/>
                </a:solidFill>
                <a:latin typeface="Arial"/>
              </a:rPr>
              <a:t>P(3, face card)  = 4/7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)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76320"/>
            <a:ext cx="9144000" cy="64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8960" indent="-85896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FIND THESE COMPOUND PROBABILI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2)  Flip a coin and pick a card from a regular deck of playing card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ind the probability of getting tails and an 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)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76320"/>
            <a:ext cx="914400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8960" indent="-85896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FIND THESE COMPOUND PROBABILI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2)  P(tails)  = 1/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)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76320"/>
            <a:ext cx="9144000" cy="71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8960" indent="-85896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FIND THESE COMPOUND PROBABILI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2)  P(tails)  = 1/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P(ace)  =  1/1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)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76320"/>
            <a:ext cx="9144000" cy="71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8960" indent="-85896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FIND THESE COMPOUND PROBABILI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2)  P(tails)  = 1/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P(ace)  =  1/1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P(tails, ace)  = 1/2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)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58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OMPOUND PROBABILI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Finding the probability of an outcome that is the result of two or more events is a compound probability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76320"/>
            <a:ext cx="9144000" cy="64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8960" indent="-85896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FIND THESE COMPOUND PROBABILI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Arial"/>
              </a:rPr>
              <a:t>3)  Select a marble from a bag containing 3 red and 2 blue marbles.  Then flip a coi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ff00"/>
                </a:solidFill>
                <a:latin typeface="Arial"/>
              </a:rPr>
              <a:t>Find the probability of getting a blue marble and head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)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76320"/>
            <a:ext cx="914400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8960" indent="-85896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FIND THESE COMPOUND PROBABILI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00"/>
                </a:solidFill>
                <a:latin typeface="Arial"/>
              </a:rPr>
              <a:t>3)  P(blue)  =  2/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00"/>
                </a:solidFill>
                <a:latin typeface="Arial"/>
              </a:rPr>
              <a:t>	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)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76320"/>
            <a:ext cx="9144000" cy="71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8960" indent="-85896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FIND THESE COMPOUND PROBABILI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00"/>
                </a:solidFill>
                <a:latin typeface="Arial"/>
              </a:rPr>
              <a:t>3)  P(blue)  =  2/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6000" spc="-1" strike="noStrike">
                <a:solidFill>
                  <a:srgbClr val="00ff00"/>
                </a:solidFill>
                <a:latin typeface="Arial"/>
              </a:rPr>
              <a:t>P(heads)  =  1/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00"/>
                </a:solidFill>
                <a:latin typeface="Arial"/>
              </a:rPr>
              <a:t>	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)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76320"/>
            <a:ext cx="9144000" cy="71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8960" indent="-85896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FIND THESE COMPOUND PROBABILI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00"/>
                </a:solidFill>
                <a:latin typeface="Arial"/>
              </a:rPr>
              <a:t>3)  P(blue)  =  2/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6000" spc="-1" strike="noStrike">
                <a:solidFill>
                  <a:srgbClr val="00ff00"/>
                </a:solidFill>
                <a:latin typeface="Arial"/>
              </a:rPr>
              <a:t>P(heads)  =  1/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6000" spc="-1" strike="noStrike">
                <a:solidFill>
                  <a:srgbClr val="00ff00"/>
                </a:solidFill>
                <a:latin typeface="Arial"/>
              </a:rPr>
              <a:t>P(blue, heads)  =  1/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)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76320"/>
            <a:ext cx="9144000" cy="73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8960" indent="-85896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FIND THESE COMPOUND PROBABILI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4)  Roll a regular die and spin a spinner with 3 equal sections containing the letters A, B, and 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Find the probability of getting a number greater than 2 and a B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76320"/>
            <a:ext cx="9144000" cy="51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8960" indent="-85896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FIND THESE COMPOUND PROBABILI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4)  P(# &gt;2)  =  4/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76320"/>
            <a:ext cx="9144000" cy="72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8960" indent="-85896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FIND THESE COMPOUND PROBABILI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4)  P(# &gt;2)  =  4/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P(B)  =  1/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76320"/>
            <a:ext cx="9144000" cy="72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8960" indent="-85896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FIND THESE COMPOUND PROBABILI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4)  P(# &gt;2)  =  4/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P(B)  =  1/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P(#&gt;2, B)  =  2/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76320"/>
            <a:ext cx="9144000" cy="66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8960" indent="-85896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FIND THESE COMPOUND PROBABILI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5)  Roll a ten-sided die and spin a spinner with 5 equal sections containing the letters A, B, and C, D, and 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ind the probability of getting a prime number and a vowe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76320"/>
            <a:ext cx="9144000" cy="35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8960" indent="-85896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FIND THESE COMPOUND PROBABILI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5)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P(prime #)  =  4/1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53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OMPOUND PROBABILI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For example, if you roll a regular die and then flip a coin, the probability of getting a six and heads is a compound probability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76320"/>
            <a:ext cx="9144000" cy="56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8960" indent="-85896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FIND THESE COMPOUND PROBABILI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5)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P(prime #)  =  4/1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P(vowel)  = 2/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76320"/>
            <a:ext cx="9144000" cy="56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8960" indent="-85896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FIND THESE COMPOUND PROBABILI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5)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P(prime #)  =  4/1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P(vowel)  = 2/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P(prime#, vowel)  =  4/2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76320"/>
            <a:ext cx="9144000" cy="66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8960" indent="-85896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FIND THESE COMPOUND PROBABILI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6)  Roll an 8-sided die, flip a coin, and pick a card from a regular deck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Find the probability of getting a number less than or equal to 4, tails, and a kin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76320"/>
            <a:ext cx="9144000" cy="47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8960" indent="-85896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FIND THESE COMPOUND PROBABILI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Arial"/>
              </a:rPr>
              <a:t>6)  P(#≤4)  =  4/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76320"/>
            <a:ext cx="9144000" cy="59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8960" indent="-85896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FIND THESE COMPOUND PROBABILI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Arial"/>
              </a:rPr>
              <a:t>6)  P(#≤4)  =  4/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6600"/>
                </a:solidFill>
                <a:latin typeface="Arial"/>
              </a:rPr>
              <a:t>P(tails)  = 1/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76320"/>
            <a:ext cx="9144000" cy="67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8960" indent="-85896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FIND THESE COMPOUND PROBABILI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Arial"/>
              </a:rPr>
              <a:t>6)  P(#≤4)  =  4/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6600"/>
                </a:solidFill>
                <a:latin typeface="Arial"/>
              </a:rPr>
              <a:t>P(tails)  = 1/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6600"/>
                </a:solidFill>
                <a:latin typeface="Arial"/>
              </a:rPr>
              <a:t>P(king)  =  1/1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76320"/>
            <a:ext cx="9144000" cy="77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8960" indent="-85896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FIND THESE COMPOUND PROBABILI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Arial"/>
              </a:rPr>
              <a:t>6)  P(#≤4)  =  4/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6600"/>
                </a:solidFill>
                <a:latin typeface="Arial"/>
              </a:rPr>
              <a:t>P(tails)  = 1/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6600"/>
                </a:solidFill>
                <a:latin typeface="Arial"/>
              </a:rPr>
              <a:t>P(king)  =  1/1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6600"/>
                </a:solidFill>
                <a:latin typeface="Arial"/>
              </a:rPr>
              <a:t>P(#≤4,tails,king)  = 1/5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20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OMPOUND PROBABILI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P(6)  =  1/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45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OMPOUND PROBABILI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P(6)  =  1/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P(heads)  =  1/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6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OMPOUND PROBABILI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P(6)  =  1/6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P(heads)  =  1/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P(6, heads)  = 1/6 x 1/2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66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OMPOUND PROBABILI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P(6)  =  1/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P(heads)  =  1/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P(6, heads)  = 1/6 x 1/2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= 1/1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OMPOUND PROBABILI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P(6, heads)  = 1/6 x 1/2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= 1/1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ffff"/>
                </a:solidFill>
                <a:latin typeface="Arial"/>
              </a:rPr>
              <a:t>Why do you multiply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-152280"/>
            <a:ext cx="9144000" cy="67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MPOUND PROBAB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his is the tree diagram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30T23:07:50Z</dcterms:created>
  <dc:creator>Workstation</dc:creator>
  <dc:description/>
  <dc:language>en-US</dc:language>
  <cp:lastModifiedBy>gary tsuruda</cp:lastModifiedBy>
  <dcterms:modified xsi:type="dcterms:W3CDTF">2005-10-10T21:31:26Z</dcterms:modified>
  <cp:revision>55</cp:revision>
  <dc:subject/>
  <dc:title>No Slide Title</dc:title>
</cp:coreProperties>
</file>