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63D7-39C2-41CF-8C6B-CFD9DAF3C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D647-DF59-4FB3-92D4-89EB8D46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C2B3-6251-4AC6-B9FE-793AA664F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111D-C728-4AB0-BA65-5F65D4FA1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BCAB-19A8-44DE-AEE2-C112269A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55D9-31A7-4121-BFEC-52CD60C8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DC6F-DCF5-4552-A926-51B9058B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5A8B-4C7B-460E-A43E-1B3A41EC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783E-E23E-4AA3-96EF-D442FF50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4A00-4F4D-46BB-998E-2518AD04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8E23-716E-4BCB-ACAB-B12C3B86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961B-9FBA-464F-8E9F-B1663C35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99B0-5C79-49C1-AD19-93EAFAFCC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55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95240" indent="-79524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66ff"/>
                </a:solidFill>
                <a:latin typeface="Bertram LET"/>
              </a:rPr>
              <a:t>MATH 7</a:t>
            </a:r>
            <a:r>
              <a:rPr b="1" i="1" lang="en-US" sz="4800" spc="-1" strike="noStrike">
                <a:solidFill>
                  <a:srgbClr val="0066ff"/>
                </a:solidFill>
                <a:latin typeface="BlairMdITC TT-Medium"/>
              </a:rPr>
              <a:t>π</a:t>
            </a:r>
            <a:r>
              <a:rPr b="1" i="1" lang="en-US" sz="4800" spc="-1" strike="noStrike">
                <a:solidFill>
                  <a:srgbClr val="0066ff"/>
                </a:solidFill>
                <a:latin typeface="Bertram LET"/>
              </a:rPr>
              <a:t> AGEN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795240" indent="-7952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95240" indent="-795240">
              <a:lnSpc>
                <a:spcPct val="105000"/>
              </a:lnSpc>
              <a:spcBef>
                <a:spcPts val="675"/>
              </a:spcBef>
              <a:buClr>
                <a:srgbClr val="00ff00"/>
              </a:buClr>
              <a:buFont typeface="Monotype Sorts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Arial"/>
              </a:rPr>
              <a:t>Discuss homewo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795240" indent="-795240">
              <a:lnSpc>
                <a:spcPct val="105000"/>
              </a:lnSpc>
              <a:spcBef>
                <a:spcPts val="2889"/>
              </a:spcBef>
              <a:buClr>
                <a:srgbClr val="ff0000"/>
              </a:buClr>
              <a:buFont typeface="Monotype Sorts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Sand"/>
              </a:rPr>
              <a:t>THE CARTESIAN COORDINATE SYSTE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86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René Descart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lived in the</a:t>
            </a: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en-US" sz="9600" spc="-1" strike="noStrike">
                <a:solidFill>
                  <a:srgbClr val="00ffff"/>
                </a:solidFill>
                <a:latin typeface="Arial"/>
              </a:rPr>
              <a:t>17th centur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ffcc"/>
                </a:solidFill>
                <a:latin typeface="Arial"/>
              </a:rPr>
              <a:t>1596-1650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98520" y="0"/>
            <a:ext cx="65484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1143000" y="6629400"/>
            <a:ext cx="693432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96080" y="0"/>
            <a:ext cx="106704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120" y="5334120"/>
            <a:ext cx="780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René Descart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85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René Descart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Invented analytic geometry -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bridge between algebra and geometry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1596-165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0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René Descart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Was known as the father of _____________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78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René Descart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Father of</a:t>
            </a: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modern philosophy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31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René Descart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Famous quote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50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René Descart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Famous quote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Ego cogito, ergo sum.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1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René Descart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Famous quote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Ego cogito, ergo sum.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00"/>
                </a:solidFill>
                <a:latin typeface="Arial"/>
              </a:rPr>
              <a:t>“</a:t>
            </a:r>
            <a:r>
              <a:rPr b="1" lang="en-US" sz="6000" spc="-1" strike="noStrike">
                <a:solidFill>
                  <a:srgbClr val="00ff00"/>
                </a:solidFill>
                <a:latin typeface="Arial"/>
              </a:rPr>
              <a:t>I think, therefore I am.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René Descart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Mother’s maiden nam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40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René Descart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Mother’s maiden name: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6600" spc="-1" strike="noStrike">
                <a:solidFill>
                  <a:srgbClr val="00ffcc"/>
                </a:solidFill>
                <a:latin typeface="Arial"/>
              </a:rPr>
              <a:t>Jean Brochar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73080" indent="-97308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Bertram LET"/>
              </a:rPr>
              <a:t>PRE-ALGEBRA AGEND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973080" indent="-97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73080" indent="-973080">
              <a:lnSpc>
                <a:spcPct val="90000"/>
              </a:lnSpc>
              <a:spcBef>
                <a:spcPts val="2361"/>
              </a:spcBef>
              <a:buClr>
                <a:srgbClr val="00ffff"/>
              </a:buClr>
              <a:buFont typeface="Monotype Sorts" charset="2"/>
              <a:buChar char="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ff"/>
                </a:solidFill>
                <a:latin typeface="Arial"/>
              </a:rPr>
              <a:t>Discuss homewo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973080" indent="-973080">
              <a:lnSpc>
                <a:spcPct val="90000"/>
              </a:lnSpc>
              <a:spcBef>
                <a:spcPts val="3849"/>
              </a:spcBef>
              <a:buClr>
                <a:srgbClr val="ff0000"/>
              </a:buClr>
              <a:buFont typeface="Monotype Sorts" charset="2"/>
              <a:buChar char="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The Cartesian Coordinate Plan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410080" y="5087880"/>
          <a:ext cx="3048120" cy="17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5087880"/>
                    <a:ext cx="3048120" cy="17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54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René Descart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Mother’s maiden name: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6600" spc="-1" strike="noStrike">
                <a:solidFill>
                  <a:srgbClr val="00ffcc"/>
                </a:solidFill>
                <a:latin typeface="Arial"/>
              </a:rPr>
              <a:t>Jean Brochar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Nurse’s name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4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René Descart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Mother’s maiden name: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6600" spc="-1" strike="noStrike">
                <a:solidFill>
                  <a:srgbClr val="00ffcc"/>
                </a:solidFill>
                <a:latin typeface="Arial"/>
              </a:rPr>
              <a:t>Jean Brochar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Nurse’s name: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6600" spc="-1" strike="noStrike">
                <a:solidFill>
                  <a:srgbClr val="00ffcc"/>
                </a:solidFill>
                <a:latin typeface="Arial"/>
              </a:rPr>
              <a:t>Martha Fielding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0" y="-609480"/>
            <a:ext cx="9144000" cy="815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-533520" y="7920"/>
            <a:ext cx="10363320" cy="69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29200" y="16765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QUADRANT 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029200" y="16765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QUADRANT 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33520" y="1752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QUADRANT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029200" y="16765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QUADRANT 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33520" y="1752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QUADRANT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04920" y="4495680"/>
            <a:ext cx="441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QUADRANT I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029200" y="16765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QUADRANT 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33520" y="1752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QUADRANT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04920" y="4495680"/>
            <a:ext cx="441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QUADRANT I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876920" y="44956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QUADRANT I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8" name=""/>
          <p:cNvGrpSpPr/>
          <p:nvPr/>
        </p:nvGrpSpPr>
        <p:grpSpPr>
          <a:xfrm>
            <a:off x="5420160" y="1905120"/>
            <a:ext cx="604080" cy="578520"/>
            <a:chOff x="5420160" y="1905120"/>
            <a:chExt cx="604080" cy="578520"/>
          </a:xfrm>
        </p:grpSpPr>
        <p:sp>
          <p:nvSpPr>
            <p:cNvPr id="1529" name=""/>
            <p:cNvSpPr/>
            <p:nvPr/>
          </p:nvSpPr>
          <p:spPr>
            <a:xfrm>
              <a:off x="5645160" y="1905120"/>
              <a:ext cx="228600" cy="457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rot="1414200">
              <a:off x="5486400" y="2071800"/>
              <a:ext cx="233640" cy="3808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rot="20100000">
              <a:off x="5721480" y="2057040"/>
              <a:ext cx="233280" cy="3808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990720"/>
            <a:ext cx="7924680" cy="495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h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artesia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ordinat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ystem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1" name=""/>
          <p:cNvGrpSpPr/>
          <p:nvPr/>
        </p:nvGrpSpPr>
        <p:grpSpPr>
          <a:xfrm>
            <a:off x="2752560" y="1868040"/>
            <a:ext cx="582840" cy="659880"/>
            <a:chOff x="2752560" y="1868040"/>
            <a:chExt cx="582840" cy="659880"/>
          </a:xfrm>
        </p:grpSpPr>
        <p:sp>
          <p:nvSpPr>
            <p:cNvPr id="1772" name=""/>
            <p:cNvSpPr/>
            <p:nvPr/>
          </p:nvSpPr>
          <p:spPr>
            <a:xfrm rot="19384800">
              <a:off x="2866680" y="1890360"/>
              <a:ext cx="228600" cy="457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rot="20799000">
              <a:off x="2817000" y="2125080"/>
              <a:ext cx="233640" cy="3808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 rot="17884800">
              <a:off x="2995920" y="1972440"/>
              <a:ext cx="233280" cy="3808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4" name=""/>
          <p:cNvGrpSpPr/>
          <p:nvPr/>
        </p:nvGrpSpPr>
        <p:grpSpPr>
          <a:xfrm>
            <a:off x="3579120" y="3212640"/>
            <a:ext cx="577800" cy="604800"/>
            <a:chOff x="3579120" y="3212640"/>
            <a:chExt cx="577800" cy="604800"/>
          </a:xfrm>
        </p:grpSpPr>
        <p:sp>
          <p:nvSpPr>
            <p:cNvPr id="2015" name=""/>
            <p:cNvSpPr/>
            <p:nvPr/>
          </p:nvSpPr>
          <p:spPr>
            <a:xfrm rot="16306800">
              <a:off x="3696840" y="3241440"/>
              <a:ext cx="228600" cy="457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 rot="17721600">
              <a:off x="3817800" y="3439800"/>
              <a:ext cx="233640" cy="3808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 rot="14806800">
              <a:off x="3810600" y="3204360"/>
              <a:ext cx="233280" cy="3808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7" name=""/>
          <p:cNvGrpSpPr/>
          <p:nvPr/>
        </p:nvGrpSpPr>
        <p:grpSpPr>
          <a:xfrm>
            <a:off x="1765800" y="4086360"/>
            <a:ext cx="604440" cy="578160"/>
            <a:chOff x="1765800" y="4086360"/>
            <a:chExt cx="604440" cy="578160"/>
          </a:xfrm>
        </p:grpSpPr>
        <p:sp>
          <p:nvSpPr>
            <p:cNvPr id="2258" name=""/>
            <p:cNvSpPr/>
            <p:nvPr/>
          </p:nvSpPr>
          <p:spPr>
            <a:xfrm rot="10921800">
              <a:off x="1907640" y="4203360"/>
              <a:ext cx="228600" cy="457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 rot="12336600">
              <a:off x="2065680" y="4118040"/>
              <a:ext cx="233640" cy="3808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 rot="9421800">
              <a:off x="1830960" y="4124880"/>
              <a:ext cx="233280" cy="3808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0" name=""/>
          <p:cNvGrpSpPr/>
          <p:nvPr/>
        </p:nvGrpSpPr>
        <p:grpSpPr>
          <a:xfrm>
            <a:off x="6833160" y="3120480"/>
            <a:ext cx="576360" cy="604080"/>
            <a:chOff x="6833160" y="3120480"/>
            <a:chExt cx="576360" cy="604080"/>
          </a:xfrm>
        </p:grpSpPr>
        <p:sp>
          <p:nvSpPr>
            <p:cNvPr id="2501" name=""/>
            <p:cNvSpPr/>
            <p:nvPr/>
          </p:nvSpPr>
          <p:spPr>
            <a:xfrm rot="5629200">
              <a:off x="7059240" y="3247560"/>
              <a:ext cx="228600" cy="457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 rot="7043400">
              <a:off x="6939000" y="3121200"/>
              <a:ext cx="233640" cy="3808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 rot="4129200">
              <a:off x="6937920" y="3356640"/>
              <a:ext cx="233280" cy="3808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3" name=""/>
          <p:cNvGrpSpPr/>
          <p:nvPr/>
        </p:nvGrpSpPr>
        <p:grpSpPr>
          <a:xfrm>
            <a:off x="5354640" y="455760"/>
            <a:ext cx="634320" cy="592560"/>
            <a:chOff x="5354640" y="455760"/>
            <a:chExt cx="634320" cy="592560"/>
          </a:xfrm>
        </p:grpSpPr>
        <p:sp>
          <p:nvSpPr>
            <p:cNvPr id="2744" name=""/>
            <p:cNvSpPr/>
            <p:nvPr/>
          </p:nvSpPr>
          <p:spPr>
            <a:xfrm rot="1776600">
              <a:off x="5662080" y="482040"/>
              <a:ext cx="228600" cy="457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 rot="3191400">
              <a:off x="5460120" y="555120"/>
              <a:ext cx="233640" cy="3808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 rot="276600">
              <a:off x="5671800" y="658440"/>
              <a:ext cx="233280" cy="3808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"/>
          <p:cNvSpPr txBox="1"/>
          <p:nvPr/>
        </p:nvSpPr>
        <p:spPr>
          <a:xfrm>
            <a:off x="685800" y="990720"/>
            <a:ext cx="7924680" cy="495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h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nd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70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The Cartesian Coordinate System was invented b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74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The Cartesian Coordinate System was invented b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René Descarte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57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René Descart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French mathematician and ___________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57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René Descart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French mathematician and philosophe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73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René Descart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French mathematician and philosopher    who lived in the    ____ centu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76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René Descart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lived in the</a:t>
            </a: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en-US" sz="9600" spc="-1" strike="noStrike">
                <a:solidFill>
                  <a:srgbClr val="00ffff"/>
                </a:solidFill>
                <a:latin typeface="Arial"/>
              </a:rPr>
              <a:t>17th centur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23:07:50Z</dcterms:created>
  <dc:creator>Workstation</dc:creator>
  <dc:description/>
  <dc:language>en-US</dc:language>
  <cp:lastModifiedBy>gary tsuruda</cp:lastModifiedBy>
  <dcterms:modified xsi:type="dcterms:W3CDTF">2005-10-10T21:29:02Z</dcterms:modified>
  <cp:revision>56</cp:revision>
  <dc:subject/>
  <dc:title>No Slide Title</dc:title>
</cp:coreProperties>
</file>