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213-25D2-48A3-BF83-C8EF32AD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637-E160-49A3-A757-359E95E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6B9-C576-4ED6-A45B-0016D624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FBD-56A7-41D3-A891-D4036CA1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A29-3473-468B-8BF6-CF62041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D03-CEED-4D59-A616-502BFF3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D3D-6284-4B98-A4BD-3DDEFC9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FA0-4772-4A44-8FD3-D91C597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246-45FC-4F5C-84A2-AFB3EA3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3BA-74C1-427E-A144-39FDD6C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901-E2E8-4F94-8628-B1AB26A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B61-D1C5-4306-BA3E-3AEEA9F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75B-3106-460A-BB17-F360011F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304920"/>
            <a:ext cx="800100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equalitie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3)  Solve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| 2x – 1 |  = 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3)  Solve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| 2x – 1 |  = 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2x – 1 = 7  or  2x – 1 = -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3)  Solve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| 2x – 1 |  = 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2x – 1 = 7  or  2x – 1 = -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2x = 8            2x = -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4)  Graph the solution to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y  &gt;  | x |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006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6002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8006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6002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 rot="18873600">
            <a:off x="2519280" y="-1998720"/>
            <a:ext cx="4459320" cy="45799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48006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600200" y="3049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5)  Graph the solution to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=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816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6)  Graph the solution to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≥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3(2x + 5)  ≤  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6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≥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 ≥ 4 or x ≤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600" y="3276720"/>
            <a:ext cx="22860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04920" y="3047760"/>
            <a:ext cx="6094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920" y="3429000"/>
            <a:ext cx="6094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0" y="3276720"/>
            <a:ext cx="20574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381880" y="3048120"/>
            <a:ext cx="76212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8381520" y="3352680"/>
            <a:ext cx="76212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839080" y="327672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" y="327672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7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&gt;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914400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7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&gt;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 &gt; 4 or x &lt;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62940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9051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8168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276720"/>
            <a:ext cx="20574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04920" y="3047760"/>
            <a:ext cx="6094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4920" y="3429000"/>
            <a:ext cx="6094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3276720"/>
            <a:ext cx="19051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048120"/>
            <a:ext cx="76212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8381520" y="3352680"/>
            <a:ext cx="76212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839080" y="327672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8600" y="327672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Hertz don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1"/>
          </p:cNvCxnSpPr>
          <p:nvPr/>
        </p:nvCxnSpPr>
        <p:spPr>
          <a:xfrm flipV="1" rot="10800000">
            <a:off x="2437560" y="1676160"/>
            <a:ext cx="381960" cy="1372320"/>
          </a:xfrm>
          <a:prstGeom prst="curved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3"/>
          </p:cNvCxnSpPr>
          <p:nvPr/>
        </p:nvCxnSpPr>
        <p:spPr>
          <a:xfrm>
            <a:off x="6934320" y="1676520"/>
            <a:ext cx="2160" cy="1372320"/>
          </a:xfrm>
          <a:prstGeom prst="curvedConnector5">
            <a:avLst>
              <a:gd name="adj1" fmla="val 14400000"/>
              <a:gd name="adj2" fmla="val 33324"/>
              <a:gd name="adj3" fmla="val 14400000"/>
            </a:avLst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8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&lt;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8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</a:rPr>
              <a:t>| x | &lt; 4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 &lt; 4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x &gt;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2940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051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90920" y="3276720"/>
            <a:ext cx="20574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48320" y="3276720"/>
            <a:ext cx="21333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8195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Hertz don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94" idx="1"/>
          </p:cNvCxnSpPr>
          <p:nvPr/>
        </p:nvCxnSpPr>
        <p:spPr>
          <a:xfrm flipV="1" rot="10800000">
            <a:off x="2437560" y="1676160"/>
            <a:ext cx="381960" cy="1372320"/>
          </a:xfrm>
          <a:prstGeom prst="curved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94" idx="3"/>
          </p:cNvCxnSpPr>
          <p:nvPr/>
        </p:nvCxnSpPr>
        <p:spPr>
          <a:xfrm>
            <a:off x="6934320" y="1676520"/>
            <a:ext cx="2160" cy="1372320"/>
          </a:xfrm>
          <a:prstGeom prst="curvedConnector5">
            <a:avLst>
              <a:gd name="adj1" fmla="val 14400000"/>
              <a:gd name="adj2" fmla="val 33324"/>
              <a:gd name="adj3" fmla="val 14400000"/>
            </a:avLst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0" y="0"/>
            <a:ext cx="914400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9)  Graph the solution to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= 3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0"/>
            <a:ext cx="9144000" cy="71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9)  Graph the solution to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= 3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x + 2 = 3 or x + 2 = -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3(2x + 5)  ≤  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6x + 15  ≤  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9)  Graph the solution to this equa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= 3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x + 2 = 3 or x + 2 = -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x = 1    or    x = -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479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0"/>
            <a:ext cx="914400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0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≤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0" y="0"/>
            <a:ext cx="914400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0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≤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+ 2 ≤ 3 and x + 2 ≥ 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9144000" cy="67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0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≤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+ 2 ≤ 3 and x + 2 ≥ 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≤ 1 and x ≥ -5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528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1080" y="3276720"/>
            <a:ext cx="31244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0"/>
            <a:ext cx="914400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1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&lt;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0" y="0"/>
            <a:ext cx="914400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1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&gt;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+ 2 &gt; 3  or  x + 2 &lt; 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0" y="0"/>
            <a:ext cx="9144000" cy="67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1)  Graph the solution to this inequality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| x + 2 | &gt;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+ 2 &gt; 3  or  x + 2 &lt; 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Arial"/>
              </a:rPr>
              <a:t>x &gt; 1 or  x &lt; -5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91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00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934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0384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718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051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492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808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52880" y="3657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3581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029200" y="3200400"/>
            <a:ext cx="3049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334120" y="3276720"/>
            <a:ext cx="2590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4920" y="3276720"/>
            <a:ext cx="1447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304920" y="3048120"/>
            <a:ext cx="60948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04920" y="3352680"/>
            <a:ext cx="60948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91520" y="3048120"/>
            <a:ext cx="609480" cy="304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7467480" y="3352680"/>
            <a:ext cx="53352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6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3(2x + 5)  ≤  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6x + 15  ≤  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6x  ≤ 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1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3(2x + 5)  ≤  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6x + 15  ≤  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6x  ≤ 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x  ≤  1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2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(x – 5)  &gt;  3(2x + 3)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6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2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(x – 5)  &gt;  3(2x + 3)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2x – 10  &gt;  6x + 9 +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2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(x – 5)  &gt;  3(2x + 3)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2x – 10  &gt;  6x + 9 +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-4x  &gt;  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(2)  Solve this inequality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(x – 5)  &gt;  3(2x + 3)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2x – 10  &gt;  6x + 9 +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-4x  &gt;  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x  &lt;  -5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7:15:51Z</dcterms:created>
  <dc:creator>Workstation</dc:creator>
  <dc:description/>
  <dc:language>en-US</dc:language>
  <cp:lastModifiedBy>gary tsuruda</cp:lastModifiedBy>
  <dcterms:modified xsi:type="dcterms:W3CDTF">2005-10-10T21:32:43Z</dcterms:modified>
  <cp:revision>87</cp:revision>
  <dc:subject/>
  <dc:title>No Slide Title</dc:title>
</cp:coreProperties>
</file>