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3B3-E69D-4654-8E03-D2401DD3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95E-E13C-4EF5-B026-1D22FBCF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126-2BCA-406A-A34C-54F5ED94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17BE-D394-4379-AA81-2A8E4B78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3A4-513E-4D1B-BA5C-B86A7AAB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2C1-5030-4B48-9814-7DD21762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344-C7B4-47E3-B4BA-CBF10007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494-5207-45BC-B337-4B271835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A6F-4F6B-473F-B028-1910EE97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865-D4E5-4A70-BC59-3677F2B6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19F-4AC7-4571-991D-0EB50354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393-09C5-44A5-949F-0FD0BF44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870B-05DB-463B-8DA7-D6B7F4EE4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838080"/>
            <a:ext cx="815364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4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Repeating Decimals Repea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Decimals Repeating Decima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Repeating Decimals Repea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Decimals Repeating Decima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52280"/>
            <a:ext cx="914400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epeating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decimals can also be changed into frac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me you already know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365760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333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335268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11480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4114800"/>
            <a:ext cx="9903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52280"/>
            <a:ext cx="914400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epeating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decimals can also be changed into frac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me you already know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365760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333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335268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411480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4114800"/>
            <a:ext cx="9903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557676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666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52280"/>
            <a:ext cx="914400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epeating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decimals can also be changed into frac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me you already know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65760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333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335268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411480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4114800"/>
            <a:ext cx="9903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557676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666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791320" y="5272200"/>
            <a:ext cx="990360" cy="1586880"/>
            <a:chOff x="5791320" y="5272200"/>
            <a:chExt cx="990360" cy="1586880"/>
          </a:xfrm>
        </p:grpSpPr>
        <p:sp>
          <p:nvSpPr>
            <p:cNvPr id="158" name=""/>
            <p:cNvSpPr/>
            <p:nvPr/>
          </p:nvSpPr>
          <p:spPr>
            <a:xfrm>
              <a:off x="6019920" y="527220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19920" y="603396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1320" y="6033960"/>
              <a:ext cx="99036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52280"/>
            <a:ext cx="914400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o find out how repeating decimals can be changed into fractions, we’ll have to look for patter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athematics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study of pattern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52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hange these fractions to decimals and look for a patter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066680" y="2971800"/>
            <a:ext cx="990360" cy="1586880"/>
            <a:chOff x="1066680" y="2971800"/>
            <a:chExt cx="990360" cy="1586880"/>
          </a:xfrm>
        </p:grpSpPr>
        <p:sp>
          <p:nvSpPr>
            <p:cNvPr id="178" name=""/>
            <p:cNvSpPr/>
            <p:nvPr/>
          </p:nvSpPr>
          <p:spPr>
            <a:xfrm>
              <a:off x="1295280" y="297180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95280" y="373356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66680" y="3733560"/>
              <a:ext cx="99036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124080" y="2971800"/>
            <a:ext cx="990360" cy="1586880"/>
            <a:chOff x="3124080" y="2971800"/>
            <a:chExt cx="990360" cy="1586880"/>
          </a:xfrm>
        </p:grpSpPr>
        <p:sp>
          <p:nvSpPr>
            <p:cNvPr id="182" name=""/>
            <p:cNvSpPr/>
            <p:nvPr/>
          </p:nvSpPr>
          <p:spPr>
            <a:xfrm>
              <a:off x="3352680" y="297180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52680" y="373356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24080" y="3733560"/>
              <a:ext cx="99036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934320" y="2895480"/>
            <a:ext cx="990360" cy="1586880"/>
            <a:chOff x="6934320" y="2895480"/>
            <a:chExt cx="990360" cy="1586880"/>
          </a:xfrm>
        </p:grpSpPr>
        <p:sp>
          <p:nvSpPr>
            <p:cNvPr id="186" name=""/>
            <p:cNvSpPr/>
            <p:nvPr/>
          </p:nvSpPr>
          <p:spPr>
            <a:xfrm>
              <a:off x="7162920" y="289548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2920" y="365724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4320" y="3657240"/>
              <a:ext cx="99036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90720" y="4800600"/>
            <a:ext cx="990360" cy="1586880"/>
            <a:chOff x="990720" y="4800600"/>
            <a:chExt cx="990360" cy="1586880"/>
          </a:xfrm>
        </p:grpSpPr>
        <p:sp>
          <p:nvSpPr>
            <p:cNvPr id="190" name=""/>
            <p:cNvSpPr/>
            <p:nvPr/>
          </p:nvSpPr>
          <p:spPr>
            <a:xfrm>
              <a:off x="1219320" y="480060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19320" y="556236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90720" y="5562360"/>
              <a:ext cx="99036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048120" y="4876920"/>
            <a:ext cx="990360" cy="1586880"/>
            <a:chOff x="3048120" y="4876920"/>
            <a:chExt cx="990360" cy="1586880"/>
          </a:xfrm>
        </p:grpSpPr>
        <p:sp>
          <p:nvSpPr>
            <p:cNvPr id="194" name=""/>
            <p:cNvSpPr/>
            <p:nvPr/>
          </p:nvSpPr>
          <p:spPr>
            <a:xfrm>
              <a:off x="3276720" y="487692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76720" y="563868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48120" y="5638680"/>
              <a:ext cx="99036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181480" y="2971800"/>
            <a:ext cx="990360" cy="1586880"/>
            <a:chOff x="5181480" y="2971800"/>
            <a:chExt cx="990360" cy="1586880"/>
          </a:xfrm>
        </p:grpSpPr>
        <p:sp>
          <p:nvSpPr>
            <p:cNvPr id="198" name=""/>
            <p:cNvSpPr/>
            <p:nvPr/>
          </p:nvSpPr>
          <p:spPr>
            <a:xfrm>
              <a:off x="5410080" y="297180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10080" y="373356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81480" y="3733560"/>
              <a:ext cx="99036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29200" y="4876920"/>
            <a:ext cx="990360" cy="1586880"/>
            <a:chOff x="5029200" y="4876920"/>
            <a:chExt cx="990360" cy="1586880"/>
          </a:xfrm>
        </p:grpSpPr>
        <p:sp>
          <p:nvSpPr>
            <p:cNvPr id="202" name=""/>
            <p:cNvSpPr/>
            <p:nvPr/>
          </p:nvSpPr>
          <p:spPr>
            <a:xfrm>
              <a:off x="5257800" y="487692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57800" y="563868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29200" y="5638680"/>
              <a:ext cx="99036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934320" y="4800600"/>
            <a:ext cx="990360" cy="1586880"/>
            <a:chOff x="6934320" y="4800600"/>
            <a:chExt cx="990360" cy="1586880"/>
          </a:xfrm>
        </p:grpSpPr>
        <p:sp>
          <p:nvSpPr>
            <p:cNvPr id="206" name=""/>
            <p:cNvSpPr/>
            <p:nvPr/>
          </p:nvSpPr>
          <p:spPr>
            <a:xfrm>
              <a:off x="7162920" y="480060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920" y="556236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34320" y="5562360"/>
              <a:ext cx="99036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52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hange these fractions to decimals and look for a patter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066680" y="2971800"/>
            <a:ext cx="1143000" cy="1587240"/>
            <a:chOff x="1066680" y="2971800"/>
            <a:chExt cx="1143000" cy="1587240"/>
          </a:xfrm>
        </p:grpSpPr>
        <p:sp>
          <p:nvSpPr>
            <p:cNvPr id="218" name=""/>
            <p:cNvSpPr/>
            <p:nvPr/>
          </p:nvSpPr>
          <p:spPr>
            <a:xfrm>
              <a:off x="1295280" y="297180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3000" y="373392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66680" y="3733920"/>
              <a:ext cx="9907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666880" y="2971800"/>
            <a:ext cx="1143000" cy="1587240"/>
            <a:chOff x="2666880" y="2971800"/>
            <a:chExt cx="1143000" cy="1587240"/>
          </a:xfrm>
        </p:grpSpPr>
        <p:sp>
          <p:nvSpPr>
            <p:cNvPr id="222" name=""/>
            <p:cNvSpPr/>
            <p:nvPr/>
          </p:nvSpPr>
          <p:spPr>
            <a:xfrm>
              <a:off x="2895480" y="297180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3200" y="373392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6880" y="3733920"/>
              <a:ext cx="9907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343400" y="2971800"/>
            <a:ext cx="1143000" cy="1587240"/>
            <a:chOff x="4343400" y="2971800"/>
            <a:chExt cx="1143000" cy="1587240"/>
          </a:xfrm>
        </p:grpSpPr>
        <p:sp>
          <p:nvSpPr>
            <p:cNvPr id="226" name=""/>
            <p:cNvSpPr/>
            <p:nvPr/>
          </p:nvSpPr>
          <p:spPr>
            <a:xfrm>
              <a:off x="4572000" y="297180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19720" y="373392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43400" y="3733920"/>
              <a:ext cx="9907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943600" y="2971800"/>
            <a:ext cx="1143000" cy="1587240"/>
            <a:chOff x="5943600" y="2971800"/>
            <a:chExt cx="1143000" cy="1587240"/>
          </a:xfrm>
        </p:grpSpPr>
        <p:sp>
          <p:nvSpPr>
            <p:cNvPr id="230" name=""/>
            <p:cNvSpPr/>
            <p:nvPr/>
          </p:nvSpPr>
          <p:spPr>
            <a:xfrm>
              <a:off x="6172200" y="297180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19920" y="373392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3733920"/>
              <a:ext cx="9907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467480" y="2971800"/>
            <a:ext cx="1143000" cy="1587240"/>
            <a:chOff x="7467480" y="2971800"/>
            <a:chExt cx="1143000" cy="158724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3800" y="373392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67480" y="3733920"/>
              <a:ext cx="9907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066680" y="5029200"/>
            <a:ext cx="1143000" cy="1587240"/>
            <a:chOff x="1066680" y="5029200"/>
            <a:chExt cx="1143000" cy="1587240"/>
          </a:xfrm>
        </p:grpSpPr>
        <p:sp>
          <p:nvSpPr>
            <p:cNvPr id="238" name=""/>
            <p:cNvSpPr/>
            <p:nvPr/>
          </p:nvSpPr>
          <p:spPr>
            <a:xfrm>
              <a:off x="1295280" y="502920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43000" y="579132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66680" y="5791320"/>
              <a:ext cx="9907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666880" y="5029200"/>
            <a:ext cx="1143000" cy="1587240"/>
            <a:chOff x="2666880" y="5029200"/>
            <a:chExt cx="1143000" cy="1587240"/>
          </a:xfrm>
        </p:grpSpPr>
        <p:sp>
          <p:nvSpPr>
            <p:cNvPr id="242" name=""/>
            <p:cNvSpPr/>
            <p:nvPr/>
          </p:nvSpPr>
          <p:spPr>
            <a:xfrm>
              <a:off x="2895480" y="502920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43200" y="579132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66880" y="5791320"/>
              <a:ext cx="9907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343400" y="5029200"/>
            <a:ext cx="1143000" cy="1587240"/>
            <a:chOff x="4343400" y="5029200"/>
            <a:chExt cx="1143000" cy="1587240"/>
          </a:xfrm>
        </p:grpSpPr>
        <p:sp>
          <p:nvSpPr>
            <p:cNvPr id="246" name=""/>
            <p:cNvSpPr/>
            <p:nvPr/>
          </p:nvSpPr>
          <p:spPr>
            <a:xfrm>
              <a:off x="4572000" y="502920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19720" y="579132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5791320"/>
              <a:ext cx="9907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943600" y="5029200"/>
            <a:ext cx="1143000" cy="1587240"/>
            <a:chOff x="5943600" y="5029200"/>
            <a:chExt cx="1143000" cy="1587240"/>
          </a:xfrm>
        </p:grpSpPr>
        <p:sp>
          <p:nvSpPr>
            <p:cNvPr id="250" name=""/>
            <p:cNvSpPr/>
            <p:nvPr/>
          </p:nvSpPr>
          <p:spPr>
            <a:xfrm>
              <a:off x="6172200" y="502920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19920" y="579132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43600" y="5791320"/>
              <a:ext cx="9907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467480" y="5029200"/>
            <a:ext cx="1219320" cy="1587240"/>
            <a:chOff x="7467480" y="5029200"/>
            <a:chExt cx="1219320" cy="1587240"/>
          </a:xfrm>
        </p:grpSpPr>
        <p:sp>
          <p:nvSpPr>
            <p:cNvPr id="254" name=""/>
            <p:cNvSpPr/>
            <p:nvPr/>
          </p:nvSpPr>
          <p:spPr>
            <a:xfrm>
              <a:off x="7543800" y="502920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43800" y="579132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67480" y="5791320"/>
              <a:ext cx="9907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52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hange these fractions to decimals and look for a patter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914400" y="2971800"/>
            <a:ext cx="1523880" cy="1587240"/>
            <a:chOff x="914400" y="2971800"/>
            <a:chExt cx="1523880" cy="1587240"/>
          </a:xfrm>
        </p:grpSpPr>
        <p:sp>
          <p:nvSpPr>
            <p:cNvPr id="266" name=""/>
            <p:cNvSpPr/>
            <p:nvPr/>
          </p:nvSpPr>
          <p:spPr>
            <a:xfrm>
              <a:off x="914400" y="297180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12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0720" y="3733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9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14400" y="3733920"/>
              <a:ext cx="129528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895480" y="2971800"/>
            <a:ext cx="1523880" cy="1587240"/>
            <a:chOff x="2895480" y="2971800"/>
            <a:chExt cx="1523880" cy="1587240"/>
          </a:xfrm>
        </p:grpSpPr>
        <p:sp>
          <p:nvSpPr>
            <p:cNvPr id="270" name=""/>
            <p:cNvSpPr/>
            <p:nvPr/>
          </p:nvSpPr>
          <p:spPr>
            <a:xfrm>
              <a:off x="2895480" y="297180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24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3733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9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95480" y="3733920"/>
              <a:ext cx="129528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876920" y="2971800"/>
            <a:ext cx="1523880" cy="1587240"/>
            <a:chOff x="4876920" y="2971800"/>
            <a:chExt cx="1523880" cy="1587240"/>
          </a:xfrm>
        </p:grpSpPr>
        <p:sp>
          <p:nvSpPr>
            <p:cNvPr id="274" name=""/>
            <p:cNvSpPr/>
            <p:nvPr/>
          </p:nvSpPr>
          <p:spPr>
            <a:xfrm>
              <a:off x="4876920" y="297180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37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3240" y="3733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9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76920" y="3733920"/>
              <a:ext cx="129528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934320" y="2971800"/>
            <a:ext cx="1523880" cy="1587240"/>
            <a:chOff x="6934320" y="2971800"/>
            <a:chExt cx="1523880" cy="1587240"/>
          </a:xfrm>
        </p:grpSpPr>
        <p:sp>
          <p:nvSpPr>
            <p:cNvPr id="278" name=""/>
            <p:cNvSpPr/>
            <p:nvPr/>
          </p:nvSpPr>
          <p:spPr>
            <a:xfrm>
              <a:off x="6934320" y="297180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60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10640" y="3733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9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34320" y="3733920"/>
              <a:ext cx="129528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914400" y="4952880"/>
            <a:ext cx="1523880" cy="1587240"/>
            <a:chOff x="914400" y="4952880"/>
            <a:chExt cx="1523880" cy="1587240"/>
          </a:xfrm>
        </p:grpSpPr>
        <p:sp>
          <p:nvSpPr>
            <p:cNvPr id="282" name=""/>
            <p:cNvSpPr/>
            <p:nvPr/>
          </p:nvSpPr>
          <p:spPr>
            <a:xfrm>
              <a:off x="914400" y="495288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0720" y="571500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9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4400" y="5715000"/>
              <a:ext cx="129528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971800" y="4952880"/>
            <a:ext cx="1523880" cy="1587240"/>
            <a:chOff x="2971800" y="4952880"/>
            <a:chExt cx="1523880" cy="1587240"/>
          </a:xfrm>
        </p:grpSpPr>
        <p:sp>
          <p:nvSpPr>
            <p:cNvPr id="286" name=""/>
            <p:cNvSpPr/>
            <p:nvPr/>
          </p:nvSpPr>
          <p:spPr>
            <a:xfrm>
              <a:off x="2971800" y="495288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4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48120" y="571500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9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71800" y="5715000"/>
              <a:ext cx="129528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952880" y="4952880"/>
            <a:ext cx="1523880" cy="1587240"/>
            <a:chOff x="4952880" y="4952880"/>
            <a:chExt cx="1523880" cy="1587240"/>
          </a:xfrm>
        </p:grpSpPr>
        <p:sp>
          <p:nvSpPr>
            <p:cNvPr id="290" name=""/>
            <p:cNvSpPr/>
            <p:nvPr/>
          </p:nvSpPr>
          <p:spPr>
            <a:xfrm>
              <a:off x="4952880" y="495288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4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29200" y="571500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33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52880" y="5715000"/>
              <a:ext cx="129528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934320" y="4952880"/>
            <a:ext cx="1523880" cy="1587240"/>
            <a:chOff x="6934320" y="4952880"/>
            <a:chExt cx="1523880" cy="1587240"/>
          </a:xfrm>
        </p:grpSpPr>
        <p:sp>
          <p:nvSpPr>
            <p:cNvPr id="294" name=""/>
            <p:cNvSpPr/>
            <p:nvPr/>
          </p:nvSpPr>
          <p:spPr>
            <a:xfrm>
              <a:off x="6934320" y="495288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6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0640" y="571500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1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34320" y="5715000"/>
              <a:ext cx="129528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52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Now see if you can change these repeating decimals into fractions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327672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474747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52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Now see if you can change these repeating decimals into fractions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327672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474747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019920" y="2895480"/>
            <a:ext cx="1218600" cy="1587240"/>
            <a:chOff x="6019920" y="2895480"/>
            <a:chExt cx="1218600" cy="1587240"/>
          </a:xfrm>
        </p:grpSpPr>
        <p:sp>
          <p:nvSpPr>
            <p:cNvPr id="316" name=""/>
            <p:cNvSpPr/>
            <p:nvPr/>
          </p:nvSpPr>
          <p:spPr>
            <a:xfrm>
              <a:off x="6095880" y="2895480"/>
              <a:ext cx="1142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4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95880" y="3657600"/>
              <a:ext cx="1066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19920" y="3657600"/>
              <a:ext cx="99036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152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Now see if you can change these repeating decimals into fractions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95280" y="327672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474747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019920" y="2895480"/>
            <a:ext cx="1218600" cy="1587240"/>
            <a:chOff x="6019920" y="2895480"/>
            <a:chExt cx="1218600" cy="1587240"/>
          </a:xfrm>
        </p:grpSpPr>
        <p:sp>
          <p:nvSpPr>
            <p:cNvPr id="329" name=""/>
            <p:cNvSpPr/>
            <p:nvPr/>
          </p:nvSpPr>
          <p:spPr>
            <a:xfrm>
              <a:off x="6095880" y="2895480"/>
              <a:ext cx="1142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4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95880" y="3657600"/>
              <a:ext cx="1066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19920" y="3657600"/>
              <a:ext cx="99036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981080" y="510552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777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52280"/>
            <a:ext cx="914400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When you change a fraction to a decimal, it may be a terminating or non-terminating decim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152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Now see if you can change these repeating decimals into fractions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95280" y="327672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474747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019920" y="2895480"/>
            <a:ext cx="1218600" cy="1587240"/>
            <a:chOff x="6019920" y="2895480"/>
            <a:chExt cx="1218600" cy="1587240"/>
          </a:xfrm>
        </p:grpSpPr>
        <p:sp>
          <p:nvSpPr>
            <p:cNvPr id="343" name=""/>
            <p:cNvSpPr/>
            <p:nvPr/>
          </p:nvSpPr>
          <p:spPr>
            <a:xfrm>
              <a:off x="6095880" y="2895480"/>
              <a:ext cx="1142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4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95880" y="3657600"/>
              <a:ext cx="1066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19920" y="3657600"/>
              <a:ext cx="99036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1981080" y="510552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777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91320" y="4724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54864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5486400"/>
            <a:ext cx="7621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152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Now see if you can change these repeating decimals into fractions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327672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503503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52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Now see if you can change these repeating decimals into fractions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95280" y="327672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503503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6019920" y="2895480"/>
            <a:ext cx="1675800" cy="1587240"/>
            <a:chOff x="6019920" y="2895480"/>
            <a:chExt cx="1675800" cy="1587240"/>
          </a:xfrm>
        </p:grpSpPr>
        <p:sp>
          <p:nvSpPr>
            <p:cNvPr id="369" name=""/>
            <p:cNvSpPr/>
            <p:nvPr/>
          </p:nvSpPr>
          <p:spPr>
            <a:xfrm>
              <a:off x="6124680" y="2895480"/>
              <a:ext cx="1571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50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24680" y="3657600"/>
              <a:ext cx="1465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9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9920" y="3657600"/>
              <a:ext cx="13615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152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Now see if you can change these repeating decimals into fractions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327672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503503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019920" y="2895480"/>
            <a:ext cx="1675800" cy="1587240"/>
            <a:chOff x="6019920" y="2895480"/>
            <a:chExt cx="1675800" cy="1587240"/>
          </a:xfrm>
        </p:grpSpPr>
        <p:sp>
          <p:nvSpPr>
            <p:cNvPr id="382" name=""/>
            <p:cNvSpPr/>
            <p:nvPr/>
          </p:nvSpPr>
          <p:spPr>
            <a:xfrm>
              <a:off x="6124680" y="2895480"/>
              <a:ext cx="1571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50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24680" y="3657600"/>
              <a:ext cx="1465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9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19920" y="3657600"/>
              <a:ext cx="13615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447920" y="510552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71587158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152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Now see if you can change these repeating decimals into fractions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327672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503503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6019920" y="2895480"/>
            <a:ext cx="1675800" cy="1587240"/>
            <a:chOff x="6019920" y="2895480"/>
            <a:chExt cx="1675800" cy="1587240"/>
          </a:xfrm>
        </p:grpSpPr>
        <p:sp>
          <p:nvSpPr>
            <p:cNvPr id="396" name=""/>
            <p:cNvSpPr/>
            <p:nvPr/>
          </p:nvSpPr>
          <p:spPr>
            <a:xfrm>
              <a:off x="6124680" y="2895480"/>
              <a:ext cx="1571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50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24680" y="3657600"/>
              <a:ext cx="1465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9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19920" y="3657600"/>
              <a:ext cx="13615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1447920" y="510552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71587158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553080" y="4724280"/>
            <a:ext cx="1980720" cy="1587240"/>
            <a:chOff x="6553080" y="4724280"/>
            <a:chExt cx="1980720" cy="1587240"/>
          </a:xfrm>
        </p:grpSpPr>
        <p:sp>
          <p:nvSpPr>
            <p:cNvPr id="401" name=""/>
            <p:cNvSpPr/>
            <p:nvPr/>
          </p:nvSpPr>
          <p:spPr>
            <a:xfrm>
              <a:off x="6676920" y="4724280"/>
              <a:ext cx="1856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715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76920" y="5486400"/>
              <a:ext cx="173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99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5486400"/>
              <a:ext cx="160956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re you now confident that you can change ANY repeating decimal into a frac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15228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re you now confident that you can change ANY repeating decimal into a frac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RY THES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15228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re you now confident that you can change ANY repeating decimal into a frac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RY THES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90720" y="48006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15211521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15228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re you now confident that you can change ANY repeating decimal into a frac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RY THES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990720" y="48006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15211521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095880" y="4495680"/>
            <a:ext cx="2056680" cy="1587240"/>
            <a:chOff x="6095880" y="4495680"/>
            <a:chExt cx="2056680" cy="1587240"/>
          </a:xfrm>
        </p:grpSpPr>
        <p:sp>
          <p:nvSpPr>
            <p:cNvPr id="439" name=""/>
            <p:cNvSpPr/>
            <p:nvPr/>
          </p:nvSpPr>
          <p:spPr>
            <a:xfrm>
              <a:off x="6224400" y="4495680"/>
              <a:ext cx="1928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16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24400" y="5257800"/>
              <a:ext cx="1799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11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95880" y="5257800"/>
              <a:ext cx="16711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53352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2121121211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52280"/>
            <a:ext cx="9144000" cy="88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se are </a:t>
            </a: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terminating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decimal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0.9           0.47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0.235           0.5678         0.5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0.12345678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53352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2121121211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248520" y="304920"/>
            <a:ext cx="2589840" cy="1587240"/>
            <a:chOff x="6248520" y="304920"/>
            <a:chExt cx="2589840" cy="1587240"/>
          </a:xfrm>
        </p:grpSpPr>
        <p:sp>
          <p:nvSpPr>
            <p:cNvPr id="459" name=""/>
            <p:cNvSpPr/>
            <p:nvPr/>
          </p:nvSpPr>
          <p:spPr>
            <a:xfrm>
              <a:off x="6410520" y="304920"/>
              <a:ext cx="2427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212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10520" y="1067040"/>
              <a:ext cx="2265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999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48520" y="1067040"/>
              <a:ext cx="210420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480" y="53352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2121121211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6248520" y="304920"/>
            <a:ext cx="2589840" cy="1587240"/>
            <a:chOff x="6248520" y="304920"/>
            <a:chExt cx="2589840" cy="1587240"/>
          </a:xfrm>
        </p:grpSpPr>
        <p:sp>
          <p:nvSpPr>
            <p:cNvPr id="471" name=""/>
            <p:cNvSpPr/>
            <p:nvPr/>
          </p:nvSpPr>
          <p:spPr>
            <a:xfrm>
              <a:off x="6410520" y="304920"/>
              <a:ext cx="2427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212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410520" y="1067040"/>
              <a:ext cx="2265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999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48520" y="1067040"/>
              <a:ext cx="210420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533520" y="289548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03203210320321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9480" y="53352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2121121211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248520" y="304920"/>
            <a:ext cx="2589840" cy="1587240"/>
            <a:chOff x="6248520" y="304920"/>
            <a:chExt cx="2589840" cy="1587240"/>
          </a:xfrm>
        </p:grpSpPr>
        <p:sp>
          <p:nvSpPr>
            <p:cNvPr id="484" name=""/>
            <p:cNvSpPr/>
            <p:nvPr/>
          </p:nvSpPr>
          <p:spPr>
            <a:xfrm>
              <a:off x="6410520" y="304920"/>
              <a:ext cx="2427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212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10520" y="1067040"/>
              <a:ext cx="2265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999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48520" y="1067040"/>
              <a:ext cx="210420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533520" y="289548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03203210320321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724280" y="4114800"/>
            <a:ext cx="3809160" cy="1587240"/>
            <a:chOff x="4724280" y="4114800"/>
            <a:chExt cx="3809160" cy="1587240"/>
          </a:xfrm>
        </p:grpSpPr>
        <p:sp>
          <p:nvSpPr>
            <p:cNvPr id="489" name=""/>
            <p:cNvSpPr/>
            <p:nvPr/>
          </p:nvSpPr>
          <p:spPr>
            <a:xfrm>
              <a:off x="4962600" y="4114800"/>
              <a:ext cx="357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32032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62600" y="4876920"/>
              <a:ext cx="3332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99999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24280" y="4876920"/>
              <a:ext cx="30949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OW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are you now confident that you can change ANY repeating decimal into a frac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15228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OW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are you now confident that you can change ANY repeating decimal into a frac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RY THES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15228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OW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are you now confident that you can change ANY repeating decimal into a frac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RY THES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95280" y="502920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0232323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6094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21111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81080" y="6094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21111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6248520" y="304920"/>
            <a:ext cx="1371240" cy="1587240"/>
            <a:chOff x="6248520" y="304920"/>
            <a:chExt cx="1371240" cy="1587240"/>
          </a:xfrm>
        </p:grpSpPr>
        <p:sp>
          <p:nvSpPr>
            <p:cNvPr id="534" name=""/>
            <p:cNvSpPr/>
            <p:nvPr/>
          </p:nvSpPr>
          <p:spPr>
            <a:xfrm>
              <a:off x="6334200" y="304920"/>
              <a:ext cx="1285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34200" y="1067040"/>
              <a:ext cx="1199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248520" y="1067040"/>
              <a:ext cx="111420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81080" y="6094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21111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248520" y="304920"/>
            <a:ext cx="1371240" cy="1587240"/>
            <a:chOff x="6248520" y="304920"/>
            <a:chExt cx="1371240" cy="1587240"/>
          </a:xfrm>
        </p:grpSpPr>
        <p:sp>
          <p:nvSpPr>
            <p:cNvPr id="546" name=""/>
            <p:cNvSpPr/>
            <p:nvPr/>
          </p:nvSpPr>
          <p:spPr>
            <a:xfrm>
              <a:off x="6334200" y="304920"/>
              <a:ext cx="1285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34200" y="1067040"/>
              <a:ext cx="1199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48520" y="1067040"/>
              <a:ext cx="111420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533520" y="289548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03475475475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81080" y="6094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21111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248520" y="304920"/>
            <a:ext cx="1371240" cy="1587240"/>
            <a:chOff x="6248520" y="304920"/>
            <a:chExt cx="1371240" cy="1587240"/>
          </a:xfrm>
        </p:grpSpPr>
        <p:sp>
          <p:nvSpPr>
            <p:cNvPr id="559" name=""/>
            <p:cNvSpPr/>
            <p:nvPr/>
          </p:nvSpPr>
          <p:spPr>
            <a:xfrm>
              <a:off x="6334200" y="304920"/>
              <a:ext cx="1285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34200" y="1067040"/>
              <a:ext cx="1199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248520" y="1067040"/>
              <a:ext cx="111420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520" y="289548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03475475475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724280" y="4114800"/>
            <a:ext cx="2361600" cy="1587240"/>
            <a:chOff x="4724280" y="4114800"/>
            <a:chExt cx="2361600" cy="1587240"/>
          </a:xfrm>
        </p:grpSpPr>
        <p:sp>
          <p:nvSpPr>
            <p:cNvPr id="564" name=""/>
            <p:cNvSpPr/>
            <p:nvPr/>
          </p:nvSpPr>
          <p:spPr>
            <a:xfrm>
              <a:off x="4871880" y="4114800"/>
              <a:ext cx="221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347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71880" y="4876920"/>
              <a:ext cx="2066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990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724280" y="4876920"/>
              <a:ext cx="191880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52280"/>
            <a:ext cx="9144000" cy="9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se are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on-terminating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decimal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3.14159...        0.47474747...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2.718281...       0.56785678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0.5131313...          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029200"/>
            <a:ext cx="380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676520" y="1371600"/>
            <a:ext cx="61722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52280"/>
            <a:ext cx="9144000" cy="9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Many of the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on-terminating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decimals repeat a patter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0.47474747...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0.333...           0.56777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0.5131313...          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5029200"/>
            <a:ext cx="380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52280"/>
            <a:ext cx="9144000" cy="114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You already know how to change </a:t>
            </a:r>
            <a:r>
              <a:rPr b="1" lang="en-US" sz="4800" spc="-1" strike="noStrike">
                <a:solidFill>
                  <a:srgbClr val="00cc99"/>
                </a:solidFill>
                <a:latin typeface="Arial"/>
              </a:rPr>
              <a:t>terminating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decimals into fractions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0.47 is called “47 hundredths” so its fraction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6019920"/>
            <a:ext cx="1143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52280"/>
            <a:ext cx="9144000" cy="9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0. 9 is called “9 tenths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 its fraction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3886200"/>
            <a:ext cx="990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52280"/>
            <a:ext cx="9144000" cy="10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0. 237 is call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237 thousandths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 its fraction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23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5105520"/>
            <a:ext cx="16002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52280"/>
            <a:ext cx="914400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epeating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decimals can also be changed into frac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me you already know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365760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.333…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23:07:50Z</dcterms:created>
  <dc:creator>Workstation</dc:creator>
  <dc:description/>
  <dc:language>en-US</dc:language>
  <cp:lastModifiedBy>gary tsuruda</cp:lastModifiedBy>
  <dcterms:modified xsi:type="dcterms:W3CDTF">2005-10-10T21:35:06Z</dcterms:modified>
  <cp:revision>21</cp:revision>
  <dc:subject/>
  <dc:title>No Slide Title</dc:title>
</cp:coreProperties>
</file>