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F99-04B5-4AC6-869F-3E5E72C1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87A-C81D-4F06-96A2-A23AD3FA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5C6-C719-4728-8987-C2A96C38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D7F-2EAB-4A6E-B220-0ADA946F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92B-DE98-49BA-84F9-4B7E6683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36E-66E1-491F-8E21-ABDC2E26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6E7-F24A-4852-8243-9B961356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663-9F0E-4A8F-9042-7152461D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D68-1D07-4A0E-A912-D0795DD2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107-EE9C-4A7E-945D-60FAE5B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8CC-CB40-4866-B457-8F642098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BE8-61BD-47A5-BCAA-4107CE67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F546-FE1E-424D-B1B5-C26F8A4A7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2120" y="304920"/>
            <a:ext cx="746748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TERPRET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RAPH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GRAPHS YOU KNOW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•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Venn Diagra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• </a:t>
            </a: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Matrix 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• 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Bar 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• </a:t>
            </a: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Line 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• </a:t>
            </a: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Circle 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Picture 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79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SCRIBE WHAT’S HAPPENING HE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60020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548640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752480"/>
            <a:ext cx="2438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t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u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55627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ality of golf s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81080"/>
            <a:ext cx="2209680" cy="3505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548640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9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SCRIBE WHAT’S HAPPENING HE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60020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548640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666880"/>
            <a:ext cx="2438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5627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ears of colle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819520" y="2133360"/>
            <a:ext cx="289548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2133720"/>
            <a:ext cx="2666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79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SCRIBE WHAT’S HAPPENING HE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60020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548640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09680"/>
            <a:ext cx="2590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5627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19520" y="4800240"/>
            <a:ext cx="114300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213372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48006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133720"/>
            <a:ext cx="99072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53280" y="2133720"/>
            <a:ext cx="152640" cy="335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650880" y="-1447920"/>
            <a:ext cx="9794880" cy="12420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62320" y="1066680"/>
            <a:ext cx="4724280" cy="825120"/>
          </a:xfrm>
          <a:prstGeom prst="rect">
            <a:avLst/>
          </a:prstGeom>
          <a:solidFill>
            <a:srgbClr val="e5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CAR TR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-</cp:lastModifiedBy>
  <dcterms:modified xsi:type="dcterms:W3CDTF">2007-12-29T23:46:21Z</dcterms:modified>
  <cp:revision>15</cp:revision>
  <dc:subject/>
  <dc:title>No Slide Title</dc:title>
</cp:coreProperties>
</file>