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19-73FD-4DF9-8132-D4F13214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ECB-DA84-42D7-9ECC-A4B61BEB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A5D-273E-4980-8686-24FB7DB3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BA3-3AD4-420C-8606-23299F99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829-9139-47C1-9370-604936F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33D-236B-44C5-8AFF-02C0860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67E-BA5C-4EDF-984D-0583C531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C33-1993-4565-8EBA-9B034680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3E7-01CF-4E8A-8557-32544C0F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9B9-89CE-450D-AE55-84EBF9E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253-53C8-4552-9354-546ED5B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312-AEB1-4FB4-B018-71CC323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568-A574-475D-8827-37546EB5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990720"/>
            <a:ext cx="66294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US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DI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9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66"/>
                </a:solidFill>
                <a:latin typeface="Arial"/>
              </a:rPr>
              <a:t>50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78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4200">
            <a:off x="455400" y="987480"/>
            <a:ext cx="8001000" cy="18288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64200">
            <a:off x="1441440" y="1063800"/>
            <a:ext cx="5110200" cy="13665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64200">
            <a:off x="2360160" y="1061640"/>
            <a:ext cx="2819520" cy="99072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9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50 x 101 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66"/>
                </a:solidFill>
                <a:latin typeface="Arial"/>
              </a:rPr>
              <a:t>5050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64200">
            <a:off x="455400" y="987480"/>
            <a:ext cx="8001000" cy="18288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64200">
            <a:off x="1441440" y="1063800"/>
            <a:ext cx="5110200" cy="13665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64200">
            <a:off x="2360160" y="1061640"/>
            <a:ext cx="2819520" cy="99072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1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4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5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4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51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Karl Friedrich Gauss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was born in 1777 in German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5 pairs x 51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5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+2+3+ …+48+49+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5 pairs x 51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0000"/>
                </a:solidFill>
                <a:latin typeface="Arial"/>
              </a:rPr>
              <a:t>1275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1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3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80 – 4 = 76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88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75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4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8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9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+6+7+ …+78+79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8 pairs x 85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3230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Karl Friedrich Gauss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was born in 1777 in German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A Gauss is a unit used to measure the strength of a magnetic fiel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1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3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)  How many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numb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80 ÷ 2 = 4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8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)  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75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9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)  What’s the sum of each pai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8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+4+6+ …+76+78+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0 pairs x 82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1640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64200">
            <a:off x="456840" y="964800"/>
            <a:ext cx="8305920" cy="185436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4200">
            <a:off x="1444680" y="1064880"/>
            <a:ext cx="5562720" cy="137160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64200">
            <a:off x="2361960" y="1044360"/>
            <a:ext cx="3276360" cy="1012680"/>
          </a:xfrm>
          <a:custGeom>
            <a:avLst/>
            <a:gdLst/>
            <a:ahLst/>
            <a:rect l="l" t="t" r="r" b="b"/>
            <a:pathLst>
              <a:path w="5423" h="1128">
                <a:moveTo>
                  <a:pt x="0" y="160"/>
                </a:moveTo>
                <a:cubicBezTo>
                  <a:pt x="48" y="396"/>
                  <a:pt x="96" y="632"/>
                  <a:pt x="432" y="784"/>
                </a:cubicBezTo>
                <a:cubicBezTo>
                  <a:pt x="767" y="935"/>
                  <a:pt x="1480" y="1024"/>
                  <a:pt x="2016" y="1072"/>
                </a:cubicBezTo>
                <a:cubicBezTo>
                  <a:pt x="2551" y="1119"/>
                  <a:pt x="3135" y="1128"/>
                  <a:pt x="3648" y="1072"/>
                </a:cubicBezTo>
                <a:cubicBezTo>
                  <a:pt x="4160" y="1015"/>
                  <a:pt x="4800" y="895"/>
                  <a:pt x="5088" y="736"/>
                </a:cubicBezTo>
                <a:cubicBezTo>
                  <a:pt x="5375" y="576"/>
                  <a:pt x="5328" y="223"/>
                  <a:pt x="5376" y="112"/>
                </a:cubicBezTo>
                <a:cubicBezTo>
                  <a:pt x="5423" y="0"/>
                  <a:pt x="5399" y="32"/>
                  <a:pt x="5376" y="6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371600" y="990720"/>
            <a:ext cx="66294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The problem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8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Karl’s answer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200" spc="-1" strike="noStrike">
                <a:solidFill>
                  <a:srgbClr val="ff0066"/>
                </a:solidFill>
                <a:latin typeface="Arial"/>
              </a:rPr>
              <a:t>5050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-114480"/>
            <a:ext cx="5497560" cy="697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0"/>
            <a:ext cx="20574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w many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0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w many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6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+2+3+ …+98+99+1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w many pairs of number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2:15Z</dcterms:modified>
  <cp:revision>20</cp:revision>
  <dc:subject/>
  <dc:title>No Slide Title</dc:title>
</cp:coreProperties>
</file>