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D07E-6D86-4AF0-9B52-268A5942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DCC-7640-4E9F-9723-8353BD0A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0E53-BE71-435A-8431-514CAF5E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2D0C-4796-41B2-AA92-B48B4FF9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27D-A75B-41BD-AD81-36EE0C1C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9901-DAC2-4BFA-90C8-EAE4FF63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0B3A-36A5-4350-A3F2-8B490087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32D-8698-4943-A1F8-5EA55F1D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FFF8-1A32-4B63-8F7B-FF20DFA9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CC33-A524-4BCA-8ACE-F6F9EBD4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EE0-3E3D-4F83-B0E9-C17CCEB0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1A50-766D-45B6-962C-4A083497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01D6-2F41-4E05-8501-F3A06D4EB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4382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25 - 5y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36960" y="380880"/>
            <a:ext cx="110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590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8a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b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 - 6ab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162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590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y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 + 4y - 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162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590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p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 + p + 2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4032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590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6x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 Rounded MT Bold"/>
              </a:rPr>
              <a:t>3 </a:t>
            </a: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- 2x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- 20x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590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3x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 Rounded MT Bold"/>
              </a:rPr>
              <a:t>9 </a:t>
            </a: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- 48x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18x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4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15x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3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- 12x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32x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3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-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16x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+ 2x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y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-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12y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+ 3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1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4d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+36d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+ 8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s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+26s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+ 16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1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8195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x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+ 6x + 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36960" y="380880"/>
            <a:ext cx="110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100k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-20k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+ 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5u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-25s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c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2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i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+7i +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2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s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- 12s - 3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2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5t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+15t + 2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2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7h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- 6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e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b - 81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2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7e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3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+ 28e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 - 14e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2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t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- 6tu + 16u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2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3n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+ 6n - 1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2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590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9ac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- 6bc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36960" y="380880"/>
            <a:ext cx="110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121i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- 25v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4e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3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+ 8e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+ 16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3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r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+ 4r - 7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3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5s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- s - 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3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i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+ 2i - 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3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3t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- 2t -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3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y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+ 10y - 2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3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e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+ 2e - 1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3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45v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- 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3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e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- 3e - 1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3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90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4a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b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 - 64c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36960" y="380880"/>
            <a:ext cx="110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16r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- 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4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x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3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- 2x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 + x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4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4a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- 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4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n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+ 13n -14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4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3x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- 4x + 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4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n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- 14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4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y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- 3y + 1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4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x</a:t>
            </a:r>
            <a:r>
              <a:rPr b="0" lang="en-US" sz="8800" spc="-1" strike="noStrike" baseline="30000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Arial Rounded MT Bold"/>
              </a:rPr>
              <a:t>- 16x + 4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44880" y="38088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4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90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x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 - 4xy - 21y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36960" y="380880"/>
            <a:ext cx="110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590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2d(f+2) - (f+2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36960" y="380880"/>
            <a:ext cx="110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90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n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 - 16n + 5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36960" y="380880"/>
            <a:ext cx="110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90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2m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 + 7m +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36960" y="380880"/>
            <a:ext cx="110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590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16x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9600" spc="-1" strike="noStrike">
                <a:solidFill>
                  <a:srgbClr val="000000"/>
                </a:solidFill>
                <a:latin typeface="Arial Rounded MT Bold"/>
              </a:rPr>
              <a:t> - 8xy + y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36960" y="380880"/>
            <a:ext cx="110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#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17:05:52Z</dcterms:created>
  <dc:creator>Workstation</dc:creator>
  <dc:description/>
  <dc:language>en-US</dc:language>
  <cp:lastModifiedBy>gary tsuruda</cp:lastModifiedBy>
  <dcterms:modified xsi:type="dcterms:W3CDTF">2005-10-10T21:31:46Z</dcterms:modified>
  <cp:revision>5</cp:revision>
  <dc:subject/>
  <dc:title>No Slide Title</dc:title>
</cp:coreProperties>
</file>