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76F-CA60-4E8B-AF3D-7F533714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FC8-438E-4EF6-9F4B-926B25E2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242-847F-4D95-9995-3C8BEF75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623-9A94-48AF-89BF-7709D0CC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081-13B1-47D9-B1A3-365B3246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420-0F47-4FF5-8A08-2545423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59E-C6D1-44B9-961F-3468CDD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8D5-49C1-4536-83D0-4964F89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72B-42E8-48E9-B021-46C5BCE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B5F-0B93-4256-BD68-03CEB0B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F8-B77E-4F5B-907F-75476A3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4A3-E2D6-4B97-A479-01391C3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046C-77B9-4D9D-B02E-D26EB21CD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838080"/>
            <a:ext cx="74674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OLUME OF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 PRIS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95480" y="3581280"/>
            <a:ext cx="2667240" cy="685800"/>
          </a:xfrm>
          <a:prstGeom prst="parallelogram">
            <a:avLst>
              <a:gd name="adj" fmla="val 9723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area of the base is 12 in</a:t>
            </a:r>
            <a:r>
              <a:rPr b="1" lang="en-US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height is 6 inch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581280"/>
            <a:ext cx="2667240" cy="289584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352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819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41911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95480" y="3581280"/>
            <a:ext cx="2667240" cy="685800"/>
          </a:xfrm>
          <a:prstGeom prst="parallelogram">
            <a:avLst>
              <a:gd name="adj" fmla="val 9723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refore, the volume is 12 x 6 = 72 in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81280"/>
            <a:ext cx="2667240" cy="2895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352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819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1911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this prism, the base is a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nd the area of the b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352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038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533200">
            <a:off x="4038120" y="3352680"/>
            <a:ext cx="1830600" cy="849600"/>
          </a:xfrm>
          <a:prstGeom prst="rtTriangle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6576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8862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5638680"/>
            <a:ext cx="2286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5867280"/>
            <a:ext cx="1828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4200" y="3952800"/>
            <a:ext cx="930240" cy="287280"/>
          </a:xfrm>
          <a:custGeom>
            <a:avLst/>
            <a:gdLst/>
            <a:ahLst/>
            <a:rect l="l" t="t" r="r" b="b"/>
            <a:pathLst>
              <a:path w="586" h="181">
                <a:moveTo>
                  <a:pt x="0" y="0"/>
                </a:moveTo>
                <a:cubicBezTo>
                  <a:pt x="97" y="164"/>
                  <a:pt x="188" y="166"/>
                  <a:pt x="361" y="181"/>
                </a:cubicBezTo>
                <a:cubicBezTo>
                  <a:pt x="421" y="177"/>
                  <a:pt x="481" y="175"/>
                  <a:pt x="541" y="169"/>
                </a:cubicBezTo>
                <a:cubicBezTo>
                  <a:pt x="556" y="167"/>
                  <a:pt x="586" y="158"/>
                  <a:pt x="586" y="1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this prism, the base is a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area is 6 square inch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352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038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533200">
            <a:off x="4038120" y="3352680"/>
            <a:ext cx="1830600" cy="849600"/>
          </a:xfrm>
          <a:prstGeom prst="rtTriangle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6576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1972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8862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5638680"/>
            <a:ext cx="2286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91120" y="5867280"/>
            <a:ext cx="1828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94200" y="3952800"/>
            <a:ext cx="930240" cy="287280"/>
          </a:xfrm>
          <a:custGeom>
            <a:avLst/>
            <a:gdLst/>
            <a:ahLst/>
            <a:rect l="l" t="t" r="r" b="b"/>
            <a:pathLst>
              <a:path w="586" h="181">
                <a:moveTo>
                  <a:pt x="0" y="0"/>
                </a:moveTo>
                <a:cubicBezTo>
                  <a:pt x="97" y="164"/>
                  <a:pt x="188" y="166"/>
                  <a:pt x="361" y="181"/>
                </a:cubicBezTo>
                <a:cubicBezTo>
                  <a:pt x="421" y="177"/>
                  <a:pt x="481" y="175"/>
                  <a:pt x="541" y="169"/>
                </a:cubicBezTo>
                <a:cubicBezTo>
                  <a:pt x="556" y="167"/>
                  <a:pt x="586" y="158"/>
                  <a:pt x="586" y="1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area of the base is 6 in</a:t>
            </a:r>
            <a:r>
              <a:rPr b="1" lang="en-US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height is 5 inch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352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038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533200">
            <a:off x="4038120" y="3352680"/>
            <a:ext cx="1830600" cy="849600"/>
          </a:xfrm>
          <a:prstGeom prst="rtTriangle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41972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8862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638680"/>
            <a:ext cx="2286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91120" y="5867280"/>
            <a:ext cx="1828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94200" y="3952800"/>
            <a:ext cx="930240" cy="287280"/>
          </a:xfrm>
          <a:custGeom>
            <a:avLst/>
            <a:gdLst/>
            <a:ahLst/>
            <a:rect l="l" t="t" r="r" b="b"/>
            <a:pathLst>
              <a:path w="586" h="181">
                <a:moveTo>
                  <a:pt x="0" y="0"/>
                </a:moveTo>
                <a:cubicBezTo>
                  <a:pt x="97" y="164"/>
                  <a:pt x="188" y="166"/>
                  <a:pt x="361" y="181"/>
                </a:cubicBezTo>
                <a:cubicBezTo>
                  <a:pt x="421" y="177"/>
                  <a:pt x="481" y="175"/>
                  <a:pt x="541" y="169"/>
                </a:cubicBezTo>
                <a:cubicBezTo>
                  <a:pt x="556" y="167"/>
                  <a:pt x="586" y="158"/>
                  <a:pt x="586" y="1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44956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refore, the volume is 6 x 5 = 30 in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352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038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533200">
            <a:off x="4038120" y="3352680"/>
            <a:ext cx="1830600" cy="849600"/>
          </a:xfrm>
          <a:prstGeom prst="rtTriangle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36576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441972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88620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5638680"/>
            <a:ext cx="2286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5867280"/>
            <a:ext cx="1828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4200" y="3952800"/>
            <a:ext cx="930240" cy="287280"/>
          </a:xfrm>
          <a:custGeom>
            <a:avLst/>
            <a:gdLst/>
            <a:ahLst/>
            <a:rect l="l" t="t" r="r" b="b"/>
            <a:pathLst>
              <a:path w="586" h="181">
                <a:moveTo>
                  <a:pt x="0" y="0"/>
                </a:moveTo>
                <a:cubicBezTo>
                  <a:pt x="97" y="164"/>
                  <a:pt x="188" y="166"/>
                  <a:pt x="361" y="181"/>
                </a:cubicBezTo>
                <a:cubicBezTo>
                  <a:pt x="421" y="177"/>
                  <a:pt x="481" y="175"/>
                  <a:pt x="541" y="169"/>
                </a:cubicBezTo>
                <a:cubicBezTo>
                  <a:pt x="556" y="167"/>
                  <a:pt x="586" y="158"/>
                  <a:pt x="586" y="1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495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this prism, the base is a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nd the area of the b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429000"/>
            <a:ext cx="3886200" cy="2590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28954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r = 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this prism, the base is a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area is 113.04 in</a:t>
            </a:r>
            <a:r>
              <a:rPr b="1" lang="en-US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429000"/>
            <a:ext cx="3886200" cy="2590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8954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r = 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0"/>
            <a:ext cx="86868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area of the base is 113.04 in</a:t>
            </a:r>
            <a:r>
              <a:rPr b="1" lang="en-US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height is 7 c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733920"/>
            <a:ext cx="3886200" cy="2590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038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6483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7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38862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113.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refore, the volume is 113.04 x 7 = 791.28 in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733920"/>
            <a:ext cx="3886200" cy="259056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6483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7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657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113.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VOLUM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the amount of space inside a 3-D fig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276720"/>
            <a:ext cx="2667240" cy="22096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838080"/>
            <a:ext cx="74674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VOLUM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measured in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UBIC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3352680" cy="30481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886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= 1000 in</a:t>
            </a:r>
            <a:r>
              <a:rPr b="1" lang="en-US" sz="7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343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643200">
            <a:off x="732240" y="2620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Prism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a 3-D geometric figure with sides perpendicular to the b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733920"/>
            <a:ext cx="1828800" cy="23619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09880"/>
            <a:ext cx="990360" cy="20574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962520"/>
            <a:ext cx="1600200" cy="175248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467480" y="548604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867280" y="3733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3733920"/>
            <a:ext cx="15238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86868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hat is the formula for the </a:t>
            </a:r>
            <a:r>
              <a:rPr b="1" lang="en-US" sz="11700" spc="-1" strike="noStrike">
                <a:solidFill>
                  <a:srgbClr val="000099"/>
                </a:solidFill>
                <a:latin typeface="Arial"/>
              </a:rPr>
              <a:t>area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f almost any polyg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8686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99"/>
                </a:solidFill>
                <a:latin typeface="Arial"/>
              </a:rPr>
              <a:t>A = b</a:t>
            </a: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06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2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8580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ere is a similar formula for the 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volume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f any prism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68680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V = B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stands for the </a:t>
            </a: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AREA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of the base of the prism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3581280"/>
            <a:ext cx="2667240" cy="685800"/>
          </a:xfrm>
          <a:prstGeom prst="parallelogram">
            <a:avLst>
              <a:gd name="adj" fmla="val 9723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this prism, the base is a rect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Its area is 12 square inch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581280"/>
            <a:ext cx="2667240" cy="289584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352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3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7432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6:03Z</dcterms:modified>
  <cp:revision>61</cp:revision>
  <dc:subject/>
  <dc:title>No Slide Title</dc:title>
</cp:coreProperties>
</file>