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734-12F7-4705-9873-C32A4653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704-4405-4D73-A42C-251E91D8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4DB0-8673-42AD-9862-65E2FA52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F4D-7EC8-42E0-A045-32DBC6DE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FC3-1C3F-4556-89AE-270A2645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938-3AB1-4E77-B84D-C897157D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B82-3548-44DF-9B8D-BF7840DB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D69-F1BA-414A-B2C7-A177E0F7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87B-AB9F-4C8F-B2A6-5FC02D3B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69F-0569-4903-B7A6-2069BC53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D72-DE03-4D37-A7D4-B76BF16A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64E-68EC-42DF-B75E-3E8E8084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3DAF-674D-4465-8CC9-B71AAF15C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914400"/>
            <a:ext cx="73915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INTEG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RELA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2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0000"/>
                </a:solidFill>
                <a:latin typeface="Arial"/>
              </a:rPr>
              <a:t>-22 + -14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3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-24 + 36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4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38 + -22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5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-17 + 25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TOSS UP QUES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66ffff"/>
                </a:solidFill>
                <a:latin typeface="Arial"/>
              </a:rPr>
              <a:t>-12 + 28 + -9 + 11 – 20 – 7 + 15 – -22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46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cc"/>
                </a:solidFill>
                <a:latin typeface="Arial"/>
              </a:rPr>
              <a:t>(1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ffff"/>
                </a:solidFill>
                <a:latin typeface="Arial"/>
              </a:rPr>
              <a:t>-7 + -13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46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cc"/>
                </a:solidFill>
                <a:latin typeface="Arial"/>
              </a:rPr>
              <a:t>(2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ffff"/>
                </a:solidFill>
                <a:latin typeface="Arial"/>
              </a:rPr>
              <a:t>19 + -27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46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cc"/>
                </a:solidFill>
                <a:latin typeface="Arial"/>
              </a:rPr>
              <a:t>(3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ffff"/>
                </a:solidFill>
                <a:latin typeface="Arial"/>
              </a:rPr>
              <a:t>-23 + -18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cc"/>
                </a:solidFill>
                <a:latin typeface="Arial"/>
              </a:rPr>
              <a:t>(4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ffff"/>
                </a:solidFill>
                <a:latin typeface="Arial"/>
              </a:rPr>
              <a:t>-20 + 38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46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cc"/>
                </a:solidFill>
                <a:latin typeface="Arial"/>
              </a:rPr>
              <a:t>(5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ffff"/>
                </a:solidFill>
                <a:latin typeface="Arial"/>
              </a:rPr>
              <a:t>-32 + 45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TOSS UP QUES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Arial"/>
              </a:rPr>
              <a:t>-5 + 8 – -3 + -4 – 13 + -5 + 23 – -15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TOSS UP QUES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99ff33"/>
                </a:solidFill>
                <a:latin typeface="Arial"/>
              </a:rPr>
              <a:t>-32 + 29 + -4 + 13 – 24 – 9 + 35 – -22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1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45 + -36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2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0000"/>
                </a:solidFill>
                <a:latin typeface="Arial"/>
              </a:rPr>
              <a:t>-12 + -34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3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-41 + 35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4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0000"/>
                </a:solidFill>
                <a:latin typeface="Arial"/>
              </a:rPr>
              <a:t>-60 + -47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5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0000"/>
                </a:solidFill>
                <a:latin typeface="Arial"/>
              </a:rPr>
              <a:t>74 + -23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TOSS UP QUES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99ff33"/>
                </a:solidFill>
                <a:latin typeface="Arial"/>
              </a:rPr>
              <a:t>-52 + 22 + -8 + 36 – 29 – 6 + 15 – -32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1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25 + -34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2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19 + -42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3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39 + -77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1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-25 + 18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4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47 + -32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5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62 + -59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TOSS UP QUES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99ff33"/>
                </a:solidFill>
                <a:latin typeface="Arial"/>
              </a:rPr>
              <a:t>-39 + 29 + -4 + 42 – 34 – 8 + 25 – -15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1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71 + -43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2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67 + -28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3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58 + -39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4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37 + -71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5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68 + -25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TOSS UP QUES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99ff33"/>
                </a:solidFill>
                <a:latin typeface="Arial"/>
              </a:rPr>
              <a:t>-34 + 21 + -6 + 47 – 33 – 9 + 29 – -19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1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45 + -31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2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27 + -34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2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26 + -87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3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22 + -78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4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78 + -43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5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28 + -49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TOSS UP QUES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99ff33"/>
                </a:solidFill>
                <a:latin typeface="Arial"/>
              </a:rPr>
              <a:t>-39 + 43 + -8 + 16 – 57 – 2 + 26 – -29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1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91 + -56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2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54 + -36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3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14 + -56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4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63 + -24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5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78 + -29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3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19 + -32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TOSS UP QUES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99ff33"/>
                </a:solidFill>
                <a:latin typeface="Arial"/>
              </a:rPr>
              <a:t>-62 + 21 + -4 + 20 – 39 – 8 + 16 – -54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1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18 + -44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4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0000"/>
                </a:solidFill>
                <a:latin typeface="Arial"/>
              </a:rPr>
              <a:t>-49 + -50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5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-65 + 52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TOSS UP QUES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66ff"/>
                </a:solidFill>
                <a:latin typeface="Arial"/>
              </a:rPr>
              <a:t>-7 + -8 + -9 + 14 – -10 + -4 + 13 – -20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(1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0000"/>
                </a:solidFill>
                <a:latin typeface="Arial"/>
              </a:rPr>
              <a:t>35 + -26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gary tsuruda</cp:lastModifiedBy>
  <dcterms:modified xsi:type="dcterms:W3CDTF">2005-10-10T21:33:00Z</dcterms:modified>
  <cp:revision>10</cp:revision>
  <dc:subject/>
  <dc:title>No Slide Title</dc:title>
</cp:coreProperties>
</file>