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4CE-A0BD-4473-9FA2-1DB24504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36F-4CE4-4425-886A-E6514300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88B-3E64-4B51-A4FE-A764F70A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D11-845C-4A51-B23B-11A5981B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481-AD68-429C-809C-1FCE5B8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16C-43A6-4395-8DAC-8B1FFD34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021-D287-49F4-A64E-C4CBE3CD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70D-7178-4919-9811-0BEF2FC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0B5-3C52-49EA-8BBA-607455B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A97-F702-40D1-B9B6-EA27429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4CA-D105-4635-9260-052F6EA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D98-97F5-42DF-BC8F-D8D87D1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BD5C-6F51-4973-9334-9603225D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1066680"/>
            <a:ext cx="7696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MPLIFY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ADIC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30280" y="2362320"/>
                <a:ext cx="4024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3400" y="1636560"/>
                <a:ext cx="79423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3400" y="1636560"/>
                <a:ext cx="79423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057480" y="3429000"/>
                <a:ext cx="62294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63400" y="1636560"/>
                <a:ext cx="79423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057480" y="3429000"/>
                <a:ext cx="62294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505320" y="5105520"/>
                <a:ext cx="35049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212840" y="2182680"/>
                <a:ext cx="6259680" cy="27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41280" y="1925640"/>
                <a:ext cx="84218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354480" y="4048200"/>
                <a:ext cx="2170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42880" y="1959120"/>
                <a:ext cx="7601040" cy="32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57400" y="3352680"/>
                <a:ext cx="67946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09680" y="1600200"/>
                <a:ext cx="381024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74840" y="5184720"/>
                <a:ext cx="73994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66680" y="1371600"/>
                <a:ext cx="73994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057400" y="3200400"/>
                <a:ext cx="54450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895480" y="5029200"/>
                <a:ext cx="34434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2233440"/>
                <a:ext cx="8912160" cy="294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Example #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24080" y="2438280"/>
                <a:ext cx="327672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09480" y="3200400"/>
                <a:ext cx="79120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04920" y="5105520"/>
                <a:ext cx="85341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7400" y="1371600"/>
                <a:ext cx="540540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190520" y="3292560"/>
                <a:ext cx="67485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76520" y="4952880"/>
                <a:ext cx="533376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4920" y="1295280"/>
                <a:ext cx="853416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066680" y="2514600"/>
                <a:ext cx="73152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66680" y="1676520"/>
                <a:ext cx="73152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86000" y="4191120"/>
                <a:ext cx="47466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04920" y="1905120"/>
                <a:ext cx="83008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031760" y="1676520"/>
                <a:ext cx="738684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286000" y="4191120"/>
                <a:ext cx="47466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43200" y="1371600"/>
                <a:ext cx="327672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3276720"/>
                <a:ext cx="42670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362320" y="5257800"/>
                <a:ext cx="42670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371600" y="2438280"/>
                <a:ext cx="6518160" cy="30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1600200"/>
                <a:ext cx="818028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065320" y="1600200"/>
                <a:ext cx="496404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Example #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95280" y="16365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065320" y="1600200"/>
                <a:ext cx="496404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295280" y="4038480"/>
                <a:ext cx="6782040" cy="21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71600" y="1523880"/>
                <a:ext cx="6781680" cy="21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905120" y="4168800"/>
                <a:ext cx="54496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Example #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95280" y="16365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29000" y="3429000"/>
                <a:ext cx="54864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Example #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95280" y="16365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429000" y="3429000"/>
                <a:ext cx="54864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505320" y="5105520"/>
                <a:ext cx="35049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362320" y="2057400"/>
                <a:ext cx="411480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1800" y="1636560"/>
                <a:ext cx="72658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01800" y="1636560"/>
                <a:ext cx="72658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00560" y="3429000"/>
                <a:ext cx="5543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xample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01800" y="1636560"/>
                <a:ext cx="72658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00560" y="3429000"/>
                <a:ext cx="5543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05320" y="5105520"/>
                <a:ext cx="35049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5:51Z</dcterms:modified>
  <cp:revision>13</cp:revision>
  <dc:subject/>
  <dc:title>No Slide Title</dc:title>
</cp:coreProperties>
</file>